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4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8.png" ContentType="image/png"/>
  <Override PartName="/ppt/media/image38.png" ContentType="image/png"/>
  <Override PartName="/ppt/media/image36.jpeg" ContentType="image/jpeg"/>
  <Override PartName="/ppt/media/image40.png" ContentType="image/png"/>
  <Override PartName="/ppt/media/image9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image35.jpeg" ContentType="image/jpeg"/>
  <Override PartName="/ppt/media/image32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68B2-C4DF-4680-BF25-1E14FE1AF7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Freeze-thaw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 may enter cracks in roc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reas where the temperature falls below the freezing point of water, the water will turn into ice when it is cold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 expands as it freez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ce now exerts pressure on the walls of the crack, pushing them further apart and widening the crac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er time, the crack becomes wider and the rock may break a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ion sk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 changes in temperatur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s in temperature cause the surface of the rock to expand and contract more than the interior of the roc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eakens the rock and causes cracks to for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logical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roots and animal burrows can destabilise roc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hen that grows on rock surfaces gradually wears it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mical weathering occurs when rocks are exposed to wat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nfall is naturally acidic due to the carbon dioxide dissolved in 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mical reactions taking place between the water and the rock cause the rock to break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5F8D-2308-49CC-967B-60B1910F9E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3 main ways the shape of the landscape is changed – what does erosion mean? Wear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ansport? The way the material is carried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sition – where the load is dropped when it no longer being moved fast enough to have the energy to take it any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ts of’  - water as rivers and waves, wind,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osion – by water in river vertical by water creates V-shaped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transportation – sand storm in the de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osion – by water in sea – creates cracks which will eventually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by water i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osion – by wind – creates carved stone – soft layers erod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sition by wind in de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eed to remember what these are like in a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remember the name of the type of rock that was once in the mant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7479-A2E2-41CF-8921-0D6B28121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21AB-0767-45C5-B534-D751C2E16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B60B-F1BF-42E9-9454-AF8EE19EB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0CC3-FA5B-4C86-8443-332737217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92E2-548C-43C1-B990-85C5EE49F1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F81D-A2B5-4598-94EC-399B6B3CA4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96C2-096C-48EE-A561-A7DDF49424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1577-D7E6-41B5-A57A-9149843344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0ACA-73EF-45B3-8B75-B6C0B320AE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FBED-CDD9-4243-A4A2-00C42F4A72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BBA0-1E3C-4E7F-A2A8-E50D08F5D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666F-B48B-46C5-BAB0-05AB87E4F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F488-4CDD-4EDB-8ACA-61AEE429BB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9172-75FE-4838-99ED-EFC1E6EEE8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A092-3A97-4620-B2A1-C4FD3F9AB0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21DD-9FE6-4E55-81C4-01D0C5D15C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37AF-170A-4054-86D8-392A8842D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5C35-4FC8-4497-B05E-3ABAF510D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5407-9B5A-41A4-9F45-C3F96584B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6F50-70B7-4CC6-907E-D22B937B0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8CF3-D443-496A-BA1D-9D8469835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FEAE-BD08-402A-BCBA-8F1125311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1D68-1D1D-4223-90EA-52B2337BC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26B2-3CB3-41BC-829B-D61DC2AE4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6F9F-333E-4B9B-94FB-1886B8299AD5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18EB-D3B2-4D5C-B97C-60F2FCF26629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at have we done this year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ell, since Christmas anyway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3062-DFA3-47E9-AB7F-1A1D2C196F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3424320" cy="3248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8360" y="35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Grani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4529160"/>
            <a:ext cx="2663640" cy="2212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95640" y="4216320"/>
            <a:ext cx="1650960" cy="2641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203640" y="5229360"/>
            <a:ext cx="1584360" cy="288720"/>
          </a:xfrm>
          <a:prstGeom prst="rightArrow">
            <a:avLst>
              <a:gd name="adj1" fmla="val 50000"/>
              <a:gd name="adj2" fmla="val 1371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Pum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851280" y="765000"/>
            <a:ext cx="3313080" cy="2562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076720" y="907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Obsidi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4437000"/>
            <a:ext cx="3025800" cy="1656000"/>
          </a:xfrm>
          <a:prstGeom prst="wedgeRoundRectCallout">
            <a:avLst>
              <a:gd name="adj1" fmla="val 4879"/>
              <a:gd name="adj2" fmla="val 70037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ich one has crystals you can see? How did it cool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F6AF-D57B-44B0-97A6-06B07929A4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724360" y="1557360"/>
            <a:ext cx="2089440" cy="2089080"/>
            <a:chOff x="5724360" y="1557360"/>
            <a:chExt cx="2089440" cy="2089080"/>
          </a:xfrm>
        </p:grpSpPr>
        <p:sp>
          <p:nvSpPr>
            <p:cNvPr id="224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</a:path>
              </a:pathLst>
            </a:custGeom>
            <a:noFill/>
            <a:ln w="4680">
              <a:solidFill>
                <a:srgbClr val="bab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  <a:close/>
                </a:path>
              </a:pathLst>
            </a:custGeom>
            <a:solidFill>
              <a:srgbClr val="ffb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99800" y="2301480"/>
              <a:ext cx="390240" cy="600120"/>
            </a:xfrm>
            <a:custGeom>
              <a:avLst/>
              <a:gdLst/>
              <a:ahLst/>
              <a:rect l="l" t="t" r="r" b="b"/>
              <a:pathLst>
                <a:path w="3916" h="6037">
                  <a:moveTo>
                    <a:pt x="2653" y="6037"/>
                  </a:moveTo>
                  <a:lnTo>
                    <a:pt x="2364" y="6024"/>
                  </a:lnTo>
                  <a:lnTo>
                    <a:pt x="2080" y="5985"/>
                  </a:lnTo>
                  <a:lnTo>
                    <a:pt x="1799" y="5917"/>
                  </a:lnTo>
                  <a:lnTo>
                    <a:pt x="1527" y="5823"/>
                  </a:lnTo>
                  <a:lnTo>
                    <a:pt x="1263" y="5703"/>
                  </a:lnTo>
                  <a:lnTo>
                    <a:pt x="1010" y="5553"/>
                  </a:lnTo>
                  <a:lnTo>
                    <a:pt x="768" y="5375"/>
                  </a:lnTo>
                  <a:lnTo>
                    <a:pt x="538" y="5169"/>
                  </a:lnTo>
                  <a:lnTo>
                    <a:pt x="330" y="4937"/>
                  </a:lnTo>
                  <a:lnTo>
                    <a:pt x="282" y="4877"/>
                  </a:lnTo>
                  <a:lnTo>
                    <a:pt x="343" y="4920"/>
                  </a:lnTo>
                  <a:lnTo>
                    <a:pt x="478" y="5006"/>
                  </a:lnTo>
                  <a:lnTo>
                    <a:pt x="619" y="5081"/>
                  </a:lnTo>
                  <a:lnTo>
                    <a:pt x="765" y="5146"/>
                  </a:lnTo>
                  <a:lnTo>
                    <a:pt x="915" y="5199"/>
                  </a:lnTo>
                  <a:lnTo>
                    <a:pt x="1068" y="5241"/>
                  </a:lnTo>
                  <a:lnTo>
                    <a:pt x="1226" y="5270"/>
                  </a:lnTo>
                  <a:lnTo>
                    <a:pt x="1385" y="5286"/>
                  </a:lnTo>
                  <a:lnTo>
                    <a:pt x="1547" y="5288"/>
                  </a:lnTo>
                  <a:lnTo>
                    <a:pt x="1762" y="5282"/>
                  </a:lnTo>
                  <a:lnTo>
                    <a:pt x="1973" y="5252"/>
                  </a:lnTo>
                  <a:lnTo>
                    <a:pt x="2179" y="5199"/>
                  </a:lnTo>
                  <a:lnTo>
                    <a:pt x="2378" y="5125"/>
                  </a:lnTo>
                  <a:lnTo>
                    <a:pt x="2568" y="5031"/>
                  </a:lnTo>
                  <a:lnTo>
                    <a:pt x="2751" y="4920"/>
                  </a:lnTo>
                  <a:lnTo>
                    <a:pt x="2920" y="4792"/>
                  </a:lnTo>
                  <a:lnTo>
                    <a:pt x="3078" y="4647"/>
                  </a:lnTo>
                  <a:lnTo>
                    <a:pt x="3223" y="4489"/>
                  </a:lnTo>
                  <a:lnTo>
                    <a:pt x="3352" y="4318"/>
                  </a:lnTo>
                  <a:lnTo>
                    <a:pt x="3463" y="4138"/>
                  </a:lnTo>
                  <a:lnTo>
                    <a:pt x="3557" y="3947"/>
                  </a:lnTo>
                  <a:lnTo>
                    <a:pt x="3631" y="3747"/>
                  </a:lnTo>
                  <a:lnTo>
                    <a:pt x="3683" y="3542"/>
                  </a:lnTo>
                  <a:lnTo>
                    <a:pt x="3714" y="3330"/>
                  </a:lnTo>
                  <a:lnTo>
                    <a:pt x="3719" y="3115"/>
                  </a:lnTo>
                  <a:lnTo>
                    <a:pt x="3714" y="2900"/>
                  </a:lnTo>
                  <a:lnTo>
                    <a:pt x="3683" y="2689"/>
                  </a:lnTo>
                  <a:lnTo>
                    <a:pt x="3631" y="2483"/>
                  </a:lnTo>
                  <a:lnTo>
                    <a:pt x="3557" y="2284"/>
                  </a:lnTo>
                  <a:lnTo>
                    <a:pt x="3463" y="2093"/>
                  </a:lnTo>
                  <a:lnTo>
                    <a:pt x="3352" y="1911"/>
                  </a:lnTo>
                  <a:lnTo>
                    <a:pt x="3223" y="1741"/>
                  </a:lnTo>
                  <a:lnTo>
                    <a:pt x="3078" y="1582"/>
                  </a:lnTo>
                  <a:lnTo>
                    <a:pt x="2920" y="1439"/>
                  </a:lnTo>
                  <a:lnTo>
                    <a:pt x="2751" y="1310"/>
                  </a:lnTo>
                  <a:lnTo>
                    <a:pt x="2568" y="1198"/>
                  </a:lnTo>
                  <a:lnTo>
                    <a:pt x="2378" y="1104"/>
                  </a:lnTo>
                  <a:lnTo>
                    <a:pt x="2179" y="1031"/>
                  </a:lnTo>
                  <a:lnTo>
                    <a:pt x="1973" y="978"/>
                  </a:lnTo>
                  <a:lnTo>
                    <a:pt x="1762" y="948"/>
                  </a:lnTo>
                  <a:lnTo>
                    <a:pt x="1547" y="942"/>
                  </a:lnTo>
                  <a:lnTo>
                    <a:pt x="1332" y="948"/>
                  </a:lnTo>
                  <a:lnTo>
                    <a:pt x="1120" y="978"/>
                  </a:lnTo>
                  <a:lnTo>
                    <a:pt x="915" y="1031"/>
                  </a:lnTo>
                  <a:lnTo>
                    <a:pt x="715" y="1104"/>
                  </a:lnTo>
                  <a:lnTo>
                    <a:pt x="524" y="1198"/>
                  </a:lnTo>
                  <a:lnTo>
                    <a:pt x="343" y="1310"/>
                  </a:lnTo>
                  <a:lnTo>
                    <a:pt x="172" y="1439"/>
                  </a:lnTo>
                  <a:lnTo>
                    <a:pt x="14" y="1582"/>
                  </a:lnTo>
                  <a:lnTo>
                    <a:pt x="0" y="1598"/>
                  </a:lnTo>
                  <a:lnTo>
                    <a:pt x="69" y="1474"/>
                  </a:lnTo>
                  <a:lnTo>
                    <a:pt x="170" y="1314"/>
                  </a:lnTo>
                  <a:lnTo>
                    <a:pt x="282" y="1160"/>
                  </a:lnTo>
                  <a:lnTo>
                    <a:pt x="405" y="1012"/>
                  </a:lnTo>
                  <a:lnTo>
                    <a:pt x="538" y="868"/>
                  </a:lnTo>
                  <a:lnTo>
                    <a:pt x="767" y="662"/>
                  </a:lnTo>
                  <a:lnTo>
                    <a:pt x="1008" y="484"/>
                  </a:lnTo>
                  <a:lnTo>
                    <a:pt x="1262" y="335"/>
                  </a:lnTo>
                  <a:lnTo>
                    <a:pt x="1526" y="214"/>
                  </a:lnTo>
                  <a:lnTo>
                    <a:pt x="1797" y="120"/>
                  </a:lnTo>
                  <a:lnTo>
                    <a:pt x="2076" y="54"/>
                  </a:lnTo>
                  <a:lnTo>
                    <a:pt x="2361" y="13"/>
                  </a:lnTo>
                  <a:lnTo>
                    <a:pt x="2650" y="0"/>
                  </a:lnTo>
                  <a:lnTo>
                    <a:pt x="2721" y="12"/>
                  </a:lnTo>
                  <a:lnTo>
                    <a:pt x="2803" y="49"/>
                  </a:lnTo>
                  <a:lnTo>
                    <a:pt x="2894" y="110"/>
                  </a:lnTo>
                  <a:lnTo>
                    <a:pt x="2993" y="195"/>
                  </a:lnTo>
                  <a:lnTo>
                    <a:pt x="3096" y="305"/>
                  </a:lnTo>
                  <a:lnTo>
                    <a:pt x="3202" y="438"/>
                  </a:lnTo>
                  <a:lnTo>
                    <a:pt x="3308" y="595"/>
                  </a:lnTo>
                  <a:lnTo>
                    <a:pt x="3411" y="773"/>
                  </a:lnTo>
                  <a:lnTo>
                    <a:pt x="3512" y="976"/>
                  </a:lnTo>
                  <a:lnTo>
                    <a:pt x="3606" y="1202"/>
                  </a:lnTo>
                  <a:lnTo>
                    <a:pt x="3691" y="1450"/>
                  </a:lnTo>
                  <a:lnTo>
                    <a:pt x="3766" y="1720"/>
                  </a:lnTo>
                  <a:lnTo>
                    <a:pt x="3827" y="2012"/>
                  </a:lnTo>
                  <a:lnTo>
                    <a:pt x="3875" y="2326"/>
                  </a:lnTo>
                  <a:lnTo>
                    <a:pt x="3905" y="2661"/>
                  </a:lnTo>
                  <a:lnTo>
                    <a:pt x="3916" y="3019"/>
                  </a:lnTo>
                  <a:lnTo>
                    <a:pt x="3905" y="3374"/>
                  </a:lnTo>
                  <a:lnTo>
                    <a:pt x="3875" y="3708"/>
                  </a:lnTo>
                  <a:lnTo>
                    <a:pt x="3828" y="4022"/>
                  </a:lnTo>
                  <a:lnTo>
                    <a:pt x="3767" y="4314"/>
                  </a:lnTo>
                  <a:lnTo>
                    <a:pt x="3692" y="4583"/>
                  </a:lnTo>
                  <a:lnTo>
                    <a:pt x="3607" y="4832"/>
                  </a:lnTo>
                  <a:lnTo>
                    <a:pt x="3513" y="5058"/>
                  </a:lnTo>
                  <a:lnTo>
                    <a:pt x="3414" y="5260"/>
                  </a:lnTo>
                  <a:lnTo>
                    <a:pt x="3310" y="5441"/>
                  </a:lnTo>
                  <a:lnTo>
                    <a:pt x="3204" y="5597"/>
                  </a:lnTo>
                  <a:lnTo>
                    <a:pt x="3099" y="5731"/>
                  </a:lnTo>
                  <a:lnTo>
                    <a:pt x="2997" y="5840"/>
                  </a:lnTo>
                  <a:lnTo>
                    <a:pt x="2898" y="5926"/>
                  </a:lnTo>
                  <a:lnTo>
                    <a:pt x="2807" y="5988"/>
                  </a:lnTo>
                  <a:lnTo>
                    <a:pt x="2724" y="6025"/>
                  </a:lnTo>
                  <a:lnTo>
                    <a:pt x="2653" y="603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64880" y="2390760"/>
              <a:ext cx="409320" cy="439920"/>
            </a:xfrm>
            <a:custGeom>
              <a:avLst/>
              <a:gdLst/>
              <a:ahLst/>
              <a:rect l="l" t="t" r="r" b="b"/>
              <a:pathLst>
                <a:path w="4110" h="4424">
                  <a:moveTo>
                    <a:pt x="1787" y="4424"/>
                  </a:moveTo>
                  <a:lnTo>
                    <a:pt x="1787" y="4424"/>
                  </a:lnTo>
                  <a:lnTo>
                    <a:pt x="1517" y="4397"/>
                  </a:lnTo>
                  <a:lnTo>
                    <a:pt x="1255" y="4333"/>
                  </a:lnTo>
                  <a:lnTo>
                    <a:pt x="1002" y="4236"/>
                  </a:lnTo>
                  <a:lnTo>
                    <a:pt x="764" y="4108"/>
                  </a:lnTo>
                  <a:lnTo>
                    <a:pt x="721" y="4081"/>
                  </a:lnTo>
                  <a:lnTo>
                    <a:pt x="681" y="4034"/>
                  </a:lnTo>
                  <a:lnTo>
                    <a:pt x="543" y="3851"/>
                  </a:lnTo>
                  <a:lnTo>
                    <a:pt x="420" y="3660"/>
                  </a:lnTo>
                  <a:lnTo>
                    <a:pt x="313" y="3463"/>
                  </a:lnTo>
                  <a:lnTo>
                    <a:pt x="222" y="3260"/>
                  </a:lnTo>
                  <a:lnTo>
                    <a:pt x="146" y="3051"/>
                  </a:lnTo>
                  <a:lnTo>
                    <a:pt x="86" y="2840"/>
                  </a:lnTo>
                  <a:lnTo>
                    <a:pt x="42" y="2624"/>
                  </a:lnTo>
                  <a:lnTo>
                    <a:pt x="13" y="2407"/>
                  </a:lnTo>
                  <a:lnTo>
                    <a:pt x="0" y="2189"/>
                  </a:lnTo>
                  <a:lnTo>
                    <a:pt x="2" y="1970"/>
                  </a:lnTo>
                  <a:lnTo>
                    <a:pt x="21" y="1752"/>
                  </a:lnTo>
                  <a:lnTo>
                    <a:pt x="55" y="1535"/>
                  </a:lnTo>
                  <a:lnTo>
                    <a:pt x="105" y="1321"/>
                  </a:lnTo>
                  <a:lnTo>
                    <a:pt x="170" y="1109"/>
                  </a:lnTo>
                  <a:lnTo>
                    <a:pt x="251" y="903"/>
                  </a:lnTo>
                  <a:lnTo>
                    <a:pt x="348" y="701"/>
                  </a:lnTo>
                  <a:lnTo>
                    <a:pt x="417" y="577"/>
                  </a:lnTo>
                  <a:lnTo>
                    <a:pt x="499" y="506"/>
                  </a:lnTo>
                  <a:lnTo>
                    <a:pt x="650" y="390"/>
                  </a:lnTo>
                  <a:lnTo>
                    <a:pt x="810" y="288"/>
                  </a:lnTo>
                  <a:lnTo>
                    <a:pt x="978" y="199"/>
                  </a:lnTo>
                  <a:lnTo>
                    <a:pt x="1152" y="125"/>
                  </a:lnTo>
                  <a:lnTo>
                    <a:pt x="1332" y="68"/>
                  </a:lnTo>
                  <a:lnTo>
                    <a:pt x="1517" y="27"/>
                  </a:lnTo>
                  <a:lnTo>
                    <a:pt x="1706" y="4"/>
                  </a:lnTo>
                  <a:lnTo>
                    <a:pt x="1898" y="0"/>
                  </a:lnTo>
                  <a:lnTo>
                    <a:pt x="2116" y="6"/>
                  </a:lnTo>
                  <a:lnTo>
                    <a:pt x="2331" y="37"/>
                  </a:lnTo>
                  <a:lnTo>
                    <a:pt x="2541" y="90"/>
                  </a:lnTo>
                  <a:lnTo>
                    <a:pt x="2744" y="166"/>
                  </a:lnTo>
                  <a:lnTo>
                    <a:pt x="2938" y="261"/>
                  </a:lnTo>
                  <a:lnTo>
                    <a:pt x="3122" y="375"/>
                  </a:lnTo>
                  <a:lnTo>
                    <a:pt x="3297" y="506"/>
                  </a:lnTo>
                  <a:lnTo>
                    <a:pt x="3457" y="653"/>
                  </a:lnTo>
                  <a:lnTo>
                    <a:pt x="3604" y="813"/>
                  </a:lnTo>
                  <a:lnTo>
                    <a:pt x="3735" y="987"/>
                  </a:lnTo>
                  <a:lnTo>
                    <a:pt x="3848" y="1171"/>
                  </a:lnTo>
                  <a:lnTo>
                    <a:pt x="3943" y="1365"/>
                  </a:lnTo>
                  <a:lnTo>
                    <a:pt x="4018" y="1568"/>
                  </a:lnTo>
                  <a:lnTo>
                    <a:pt x="4072" y="1778"/>
                  </a:lnTo>
                  <a:lnTo>
                    <a:pt x="4103" y="1993"/>
                  </a:lnTo>
                  <a:lnTo>
                    <a:pt x="4110" y="2212"/>
                  </a:lnTo>
                  <a:lnTo>
                    <a:pt x="4103" y="2431"/>
                  </a:lnTo>
                  <a:lnTo>
                    <a:pt x="4072" y="2645"/>
                  </a:lnTo>
                  <a:lnTo>
                    <a:pt x="4018" y="2856"/>
                  </a:lnTo>
                  <a:lnTo>
                    <a:pt x="3943" y="3058"/>
                  </a:lnTo>
                  <a:lnTo>
                    <a:pt x="3848" y="3253"/>
                  </a:lnTo>
                  <a:lnTo>
                    <a:pt x="3735" y="3438"/>
                  </a:lnTo>
                  <a:lnTo>
                    <a:pt x="3604" y="3611"/>
                  </a:lnTo>
                  <a:lnTo>
                    <a:pt x="3457" y="3772"/>
                  </a:lnTo>
                  <a:lnTo>
                    <a:pt x="3297" y="3919"/>
                  </a:lnTo>
                  <a:lnTo>
                    <a:pt x="3122" y="4049"/>
                  </a:lnTo>
                  <a:lnTo>
                    <a:pt x="2938" y="4164"/>
                  </a:lnTo>
                  <a:lnTo>
                    <a:pt x="2744" y="4258"/>
                  </a:lnTo>
                  <a:lnTo>
                    <a:pt x="2541" y="4333"/>
                  </a:lnTo>
                  <a:lnTo>
                    <a:pt x="2331" y="4388"/>
                  </a:lnTo>
                  <a:lnTo>
                    <a:pt x="2116" y="4418"/>
                  </a:lnTo>
                  <a:lnTo>
                    <a:pt x="1898" y="4424"/>
                  </a:lnTo>
                  <a:lnTo>
                    <a:pt x="1787" y="44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64880" y="2403360"/>
              <a:ext cx="397440" cy="415440"/>
            </a:xfrm>
            <a:custGeom>
              <a:avLst/>
              <a:gdLst/>
              <a:ahLst/>
              <a:rect l="l" t="t" r="r" b="b"/>
              <a:pathLst>
                <a:path w="3986" h="4178">
                  <a:moveTo>
                    <a:pt x="1794" y="4178"/>
                  </a:moveTo>
                  <a:lnTo>
                    <a:pt x="1794" y="4178"/>
                  </a:lnTo>
                  <a:lnTo>
                    <a:pt x="1614" y="4164"/>
                  </a:lnTo>
                  <a:lnTo>
                    <a:pt x="1438" y="4132"/>
                  </a:lnTo>
                  <a:lnTo>
                    <a:pt x="1266" y="4085"/>
                  </a:lnTo>
                  <a:lnTo>
                    <a:pt x="1098" y="4022"/>
                  </a:lnTo>
                  <a:lnTo>
                    <a:pt x="937" y="3943"/>
                  </a:lnTo>
                  <a:lnTo>
                    <a:pt x="782" y="3853"/>
                  </a:lnTo>
                  <a:lnTo>
                    <a:pt x="637" y="3748"/>
                  </a:lnTo>
                  <a:lnTo>
                    <a:pt x="499" y="3633"/>
                  </a:lnTo>
                  <a:lnTo>
                    <a:pt x="451" y="3587"/>
                  </a:lnTo>
                  <a:lnTo>
                    <a:pt x="420" y="3537"/>
                  </a:lnTo>
                  <a:lnTo>
                    <a:pt x="339" y="3391"/>
                  </a:lnTo>
                  <a:lnTo>
                    <a:pt x="266" y="3240"/>
                  </a:lnTo>
                  <a:lnTo>
                    <a:pt x="147" y="2928"/>
                  </a:lnTo>
                  <a:lnTo>
                    <a:pt x="62" y="2609"/>
                  </a:lnTo>
                  <a:lnTo>
                    <a:pt x="13" y="2284"/>
                  </a:lnTo>
                  <a:lnTo>
                    <a:pt x="0" y="1956"/>
                  </a:lnTo>
                  <a:lnTo>
                    <a:pt x="21" y="1629"/>
                  </a:lnTo>
                  <a:lnTo>
                    <a:pt x="77" y="1304"/>
                  </a:lnTo>
                  <a:lnTo>
                    <a:pt x="170" y="986"/>
                  </a:lnTo>
                  <a:lnTo>
                    <a:pt x="222" y="849"/>
                  </a:lnTo>
                  <a:lnTo>
                    <a:pt x="222" y="849"/>
                  </a:lnTo>
                  <a:lnTo>
                    <a:pt x="380" y="662"/>
                  </a:lnTo>
                  <a:lnTo>
                    <a:pt x="556" y="494"/>
                  </a:lnTo>
                  <a:lnTo>
                    <a:pt x="750" y="347"/>
                  </a:lnTo>
                  <a:lnTo>
                    <a:pt x="960" y="222"/>
                  </a:lnTo>
                  <a:lnTo>
                    <a:pt x="1181" y="123"/>
                  </a:lnTo>
                  <a:lnTo>
                    <a:pt x="1412" y="51"/>
                  </a:lnTo>
                  <a:lnTo>
                    <a:pt x="1653" y="9"/>
                  </a:lnTo>
                  <a:lnTo>
                    <a:pt x="1898" y="0"/>
                  </a:lnTo>
                  <a:lnTo>
                    <a:pt x="2104" y="6"/>
                  </a:lnTo>
                  <a:lnTo>
                    <a:pt x="2307" y="34"/>
                  </a:lnTo>
                  <a:lnTo>
                    <a:pt x="2506" y="85"/>
                  </a:lnTo>
                  <a:lnTo>
                    <a:pt x="2697" y="157"/>
                  </a:lnTo>
                  <a:lnTo>
                    <a:pt x="2881" y="246"/>
                  </a:lnTo>
                  <a:lnTo>
                    <a:pt x="3055" y="354"/>
                  </a:lnTo>
                  <a:lnTo>
                    <a:pt x="3218" y="478"/>
                  </a:lnTo>
                  <a:lnTo>
                    <a:pt x="3371" y="616"/>
                  </a:lnTo>
                  <a:lnTo>
                    <a:pt x="3509" y="768"/>
                  </a:lnTo>
                  <a:lnTo>
                    <a:pt x="3632" y="931"/>
                  </a:lnTo>
                  <a:lnTo>
                    <a:pt x="3740" y="1106"/>
                  </a:lnTo>
                  <a:lnTo>
                    <a:pt x="3830" y="1290"/>
                  </a:lnTo>
                  <a:lnTo>
                    <a:pt x="3901" y="1481"/>
                  </a:lnTo>
                  <a:lnTo>
                    <a:pt x="3952" y="1679"/>
                  </a:lnTo>
                  <a:lnTo>
                    <a:pt x="3981" y="1882"/>
                  </a:lnTo>
                  <a:lnTo>
                    <a:pt x="3986" y="2089"/>
                  </a:lnTo>
                  <a:lnTo>
                    <a:pt x="3981" y="2296"/>
                  </a:lnTo>
                  <a:lnTo>
                    <a:pt x="3952" y="2499"/>
                  </a:lnTo>
                  <a:lnTo>
                    <a:pt x="3901" y="2697"/>
                  </a:lnTo>
                  <a:lnTo>
                    <a:pt x="3830" y="2889"/>
                  </a:lnTo>
                  <a:lnTo>
                    <a:pt x="3740" y="3072"/>
                  </a:lnTo>
                  <a:lnTo>
                    <a:pt x="3632" y="3246"/>
                  </a:lnTo>
                  <a:lnTo>
                    <a:pt x="3509" y="3411"/>
                  </a:lnTo>
                  <a:lnTo>
                    <a:pt x="3371" y="3562"/>
                  </a:lnTo>
                  <a:lnTo>
                    <a:pt x="3218" y="3701"/>
                  </a:lnTo>
                  <a:lnTo>
                    <a:pt x="3055" y="3824"/>
                  </a:lnTo>
                  <a:lnTo>
                    <a:pt x="2881" y="3931"/>
                  </a:lnTo>
                  <a:lnTo>
                    <a:pt x="2697" y="4022"/>
                  </a:lnTo>
                  <a:lnTo>
                    <a:pt x="2506" y="4092"/>
                  </a:lnTo>
                  <a:lnTo>
                    <a:pt x="2307" y="4143"/>
                  </a:lnTo>
                  <a:lnTo>
                    <a:pt x="2104" y="4172"/>
                  </a:lnTo>
                  <a:lnTo>
                    <a:pt x="1898" y="4178"/>
                  </a:lnTo>
                  <a:lnTo>
                    <a:pt x="1794" y="4178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64880" y="2415240"/>
              <a:ext cx="384480" cy="391680"/>
            </a:xfrm>
            <a:custGeom>
              <a:avLst/>
              <a:gdLst/>
              <a:ahLst/>
              <a:rect l="l" t="t" r="r" b="b"/>
              <a:pathLst>
                <a:path w="3865" h="3933">
                  <a:moveTo>
                    <a:pt x="1801" y="3933"/>
                  </a:moveTo>
                  <a:lnTo>
                    <a:pt x="1801" y="3932"/>
                  </a:lnTo>
                  <a:lnTo>
                    <a:pt x="1560" y="3909"/>
                  </a:lnTo>
                  <a:lnTo>
                    <a:pt x="1326" y="3851"/>
                  </a:lnTo>
                  <a:lnTo>
                    <a:pt x="1102" y="3765"/>
                  </a:lnTo>
                  <a:lnTo>
                    <a:pt x="890" y="3652"/>
                  </a:lnTo>
                  <a:lnTo>
                    <a:pt x="693" y="3514"/>
                  </a:lnTo>
                  <a:lnTo>
                    <a:pt x="512" y="3353"/>
                  </a:lnTo>
                  <a:lnTo>
                    <a:pt x="351" y="3172"/>
                  </a:lnTo>
                  <a:lnTo>
                    <a:pt x="213" y="2974"/>
                  </a:lnTo>
                  <a:lnTo>
                    <a:pt x="200" y="2952"/>
                  </a:lnTo>
                  <a:lnTo>
                    <a:pt x="171" y="2876"/>
                  </a:lnTo>
                  <a:lnTo>
                    <a:pt x="110" y="2683"/>
                  </a:lnTo>
                  <a:lnTo>
                    <a:pt x="63" y="2486"/>
                  </a:lnTo>
                  <a:lnTo>
                    <a:pt x="29" y="2288"/>
                  </a:lnTo>
                  <a:lnTo>
                    <a:pt x="8" y="2088"/>
                  </a:lnTo>
                  <a:lnTo>
                    <a:pt x="0" y="1888"/>
                  </a:lnTo>
                  <a:lnTo>
                    <a:pt x="6" y="1688"/>
                  </a:lnTo>
                  <a:lnTo>
                    <a:pt x="24" y="1488"/>
                  </a:lnTo>
                  <a:lnTo>
                    <a:pt x="56" y="1289"/>
                  </a:lnTo>
                  <a:lnTo>
                    <a:pt x="64" y="1253"/>
                  </a:lnTo>
                  <a:lnTo>
                    <a:pt x="79" y="1213"/>
                  </a:lnTo>
                  <a:lnTo>
                    <a:pt x="141" y="1083"/>
                  </a:lnTo>
                  <a:lnTo>
                    <a:pt x="213" y="957"/>
                  </a:lnTo>
                  <a:lnTo>
                    <a:pt x="294" y="837"/>
                  </a:lnTo>
                  <a:lnTo>
                    <a:pt x="382" y="722"/>
                  </a:lnTo>
                  <a:lnTo>
                    <a:pt x="478" y="614"/>
                  </a:lnTo>
                  <a:lnTo>
                    <a:pt x="583" y="513"/>
                  </a:lnTo>
                  <a:lnTo>
                    <a:pt x="693" y="419"/>
                  </a:lnTo>
                  <a:lnTo>
                    <a:pt x="809" y="333"/>
                  </a:lnTo>
                  <a:lnTo>
                    <a:pt x="931" y="256"/>
                  </a:lnTo>
                  <a:lnTo>
                    <a:pt x="1059" y="187"/>
                  </a:lnTo>
                  <a:lnTo>
                    <a:pt x="1190" y="129"/>
                  </a:lnTo>
                  <a:lnTo>
                    <a:pt x="1326" y="80"/>
                  </a:lnTo>
                  <a:lnTo>
                    <a:pt x="1465" y="43"/>
                  </a:lnTo>
                  <a:lnTo>
                    <a:pt x="1608" y="16"/>
                  </a:lnTo>
                  <a:lnTo>
                    <a:pt x="1752" y="2"/>
                  </a:lnTo>
                  <a:lnTo>
                    <a:pt x="1899" y="0"/>
                  </a:lnTo>
                  <a:lnTo>
                    <a:pt x="2093" y="5"/>
                  </a:lnTo>
                  <a:lnTo>
                    <a:pt x="2284" y="33"/>
                  </a:lnTo>
                  <a:lnTo>
                    <a:pt x="2470" y="80"/>
                  </a:lnTo>
                  <a:lnTo>
                    <a:pt x="2651" y="147"/>
                  </a:lnTo>
                  <a:lnTo>
                    <a:pt x="2823" y="231"/>
                  </a:lnTo>
                  <a:lnTo>
                    <a:pt x="2988" y="333"/>
                  </a:lnTo>
                  <a:lnTo>
                    <a:pt x="3142" y="450"/>
                  </a:lnTo>
                  <a:lnTo>
                    <a:pt x="3285" y="580"/>
                  </a:lnTo>
                  <a:lnTo>
                    <a:pt x="3415" y="722"/>
                  </a:lnTo>
                  <a:lnTo>
                    <a:pt x="3532" y="877"/>
                  </a:lnTo>
                  <a:lnTo>
                    <a:pt x="3633" y="1041"/>
                  </a:lnTo>
                  <a:lnTo>
                    <a:pt x="3717" y="1213"/>
                  </a:lnTo>
                  <a:lnTo>
                    <a:pt x="3784" y="1394"/>
                  </a:lnTo>
                  <a:lnTo>
                    <a:pt x="3832" y="1581"/>
                  </a:lnTo>
                  <a:lnTo>
                    <a:pt x="3859" y="1772"/>
                  </a:lnTo>
                  <a:lnTo>
                    <a:pt x="3865" y="1966"/>
                  </a:lnTo>
                  <a:lnTo>
                    <a:pt x="3859" y="2161"/>
                  </a:lnTo>
                  <a:lnTo>
                    <a:pt x="3832" y="2352"/>
                  </a:lnTo>
                  <a:lnTo>
                    <a:pt x="3784" y="2538"/>
                  </a:lnTo>
                  <a:lnTo>
                    <a:pt x="3717" y="2718"/>
                  </a:lnTo>
                  <a:lnTo>
                    <a:pt x="3633" y="2891"/>
                  </a:lnTo>
                  <a:lnTo>
                    <a:pt x="3532" y="3056"/>
                  </a:lnTo>
                  <a:lnTo>
                    <a:pt x="3415" y="3209"/>
                  </a:lnTo>
                  <a:lnTo>
                    <a:pt x="3285" y="3353"/>
                  </a:lnTo>
                  <a:lnTo>
                    <a:pt x="3142" y="3483"/>
                  </a:lnTo>
                  <a:lnTo>
                    <a:pt x="2988" y="3599"/>
                  </a:lnTo>
                  <a:lnTo>
                    <a:pt x="2823" y="3700"/>
                  </a:lnTo>
                  <a:lnTo>
                    <a:pt x="2651" y="3785"/>
                  </a:lnTo>
                  <a:lnTo>
                    <a:pt x="2470" y="3852"/>
                  </a:lnTo>
                  <a:lnTo>
                    <a:pt x="2284" y="3900"/>
                  </a:lnTo>
                  <a:lnTo>
                    <a:pt x="2093" y="3927"/>
                  </a:lnTo>
                  <a:lnTo>
                    <a:pt x="1899" y="3932"/>
                  </a:lnTo>
                  <a:lnTo>
                    <a:pt x="1801" y="3932"/>
                  </a:lnTo>
                  <a:lnTo>
                    <a:pt x="1801" y="3933"/>
                  </a:lnTo>
                  <a:close/>
                </a:path>
              </a:pathLst>
            </a:custGeom>
            <a:solidFill>
              <a:srgbClr val="ff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70280" y="2428200"/>
              <a:ext cx="366840" cy="366120"/>
            </a:xfrm>
            <a:custGeom>
              <a:avLst/>
              <a:gdLst/>
              <a:ahLst/>
              <a:rect l="l" t="t" r="r" b="b"/>
              <a:pathLst>
                <a:path w="3687" h="3687">
                  <a:moveTo>
                    <a:pt x="1752" y="3687"/>
                  </a:moveTo>
                  <a:lnTo>
                    <a:pt x="1752" y="3687"/>
                  </a:lnTo>
                  <a:lnTo>
                    <a:pt x="1577" y="3673"/>
                  </a:lnTo>
                  <a:lnTo>
                    <a:pt x="1405" y="3640"/>
                  </a:lnTo>
                  <a:lnTo>
                    <a:pt x="1238" y="3589"/>
                  </a:lnTo>
                  <a:lnTo>
                    <a:pt x="1077" y="3522"/>
                  </a:lnTo>
                  <a:lnTo>
                    <a:pt x="923" y="3439"/>
                  </a:lnTo>
                  <a:lnTo>
                    <a:pt x="776" y="3342"/>
                  </a:lnTo>
                  <a:lnTo>
                    <a:pt x="639" y="3233"/>
                  </a:lnTo>
                  <a:lnTo>
                    <a:pt x="512" y="3111"/>
                  </a:lnTo>
                  <a:lnTo>
                    <a:pt x="396" y="2979"/>
                  </a:lnTo>
                  <a:lnTo>
                    <a:pt x="294" y="2837"/>
                  </a:lnTo>
                  <a:lnTo>
                    <a:pt x="204" y="2687"/>
                  </a:lnTo>
                  <a:lnTo>
                    <a:pt x="129" y="2529"/>
                  </a:lnTo>
                  <a:lnTo>
                    <a:pt x="71" y="2364"/>
                  </a:lnTo>
                  <a:lnTo>
                    <a:pt x="29" y="2195"/>
                  </a:lnTo>
                  <a:lnTo>
                    <a:pt x="5" y="2020"/>
                  </a:lnTo>
                  <a:lnTo>
                    <a:pt x="0" y="1844"/>
                  </a:lnTo>
                  <a:lnTo>
                    <a:pt x="6" y="1662"/>
                  </a:lnTo>
                  <a:lnTo>
                    <a:pt x="31" y="1483"/>
                  </a:lnTo>
                  <a:lnTo>
                    <a:pt x="75" y="1308"/>
                  </a:lnTo>
                  <a:lnTo>
                    <a:pt x="138" y="1139"/>
                  </a:lnTo>
                  <a:lnTo>
                    <a:pt x="218" y="977"/>
                  </a:lnTo>
                  <a:lnTo>
                    <a:pt x="312" y="823"/>
                  </a:lnTo>
                  <a:lnTo>
                    <a:pt x="422" y="679"/>
                  </a:lnTo>
                  <a:lnTo>
                    <a:pt x="544" y="544"/>
                  </a:lnTo>
                  <a:lnTo>
                    <a:pt x="678" y="422"/>
                  </a:lnTo>
                  <a:lnTo>
                    <a:pt x="822" y="313"/>
                  </a:lnTo>
                  <a:lnTo>
                    <a:pt x="977" y="219"/>
                  </a:lnTo>
                  <a:lnTo>
                    <a:pt x="1138" y="139"/>
                  </a:lnTo>
                  <a:lnTo>
                    <a:pt x="1308" y="76"/>
                  </a:lnTo>
                  <a:lnTo>
                    <a:pt x="1482" y="31"/>
                  </a:lnTo>
                  <a:lnTo>
                    <a:pt x="1661" y="6"/>
                  </a:lnTo>
                  <a:lnTo>
                    <a:pt x="1844" y="0"/>
                  </a:lnTo>
                  <a:lnTo>
                    <a:pt x="2026" y="6"/>
                  </a:lnTo>
                  <a:lnTo>
                    <a:pt x="2205" y="31"/>
                  </a:lnTo>
                  <a:lnTo>
                    <a:pt x="2380" y="76"/>
                  </a:lnTo>
                  <a:lnTo>
                    <a:pt x="2549" y="139"/>
                  </a:lnTo>
                  <a:lnTo>
                    <a:pt x="2711" y="219"/>
                  </a:lnTo>
                  <a:lnTo>
                    <a:pt x="2864" y="313"/>
                  </a:lnTo>
                  <a:lnTo>
                    <a:pt x="3009" y="422"/>
                  </a:lnTo>
                  <a:lnTo>
                    <a:pt x="3143" y="544"/>
                  </a:lnTo>
                  <a:lnTo>
                    <a:pt x="3265" y="679"/>
                  </a:lnTo>
                  <a:lnTo>
                    <a:pt x="3374" y="823"/>
                  </a:lnTo>
                  <a:lnTo>
                    <a:pt x="3469" y="977"/>
                  </a:lnTo>
                  <a:lnTo>
                    <a:pt x="3548" y="1139"/>
                  </a:lnTo>
                  <a:lnTo>
                    <a:pt x="3611" y="1308"/>
                  </a:lnTo>
                  <a:lnTo>
                    <a:pt x="3657" y="1483"/>
                  </a:lnTo>
                  <a:lnTo>
                    <a:pt x="3682" y="1662"/>
                  </a:lnTo>
                  <a:lnTo>
                    <a:pt x="3687" y="1844"/>
                  </a:lnTo>
                  <a:lnTo>
                    <a:pt x="3682" y="2027"/>
                  </a:lnTo>
                  <a:lnTo>
                    <a:pt x="3657" y="2206"/>
                  </a:lnTo>
                  <a:lnTo>
                    <a:pt x="3611" y="2380"/>
                  </a:lnTo>
                  <a:lnTo>
                    <a:pt x="3548" y="2549"/>
                  </a:lnTo>
                  <a:lnTo>
                    <a:pt x="3469" y="2711"/>
                  </a:lnTo>
                  <a:lnTo>
                    <a:pt x="3374" y="2865"/>
                  </a:lnTo>
                  <a:lnTo>
                    <a:pt x="3265" y="3010"/>
                  </a:lnTo>
                  <a:lnTo>
                    <a:pt x="3143" y="3143"/>
                  </a:lnTo>
                  <a:lnTo>
                    <a:pt x="3009" y="3266"/>
                  </a:lnTo>
                  <a:lnTo>
                    <a:pt x="2864" y="3375"/>
                  </a:lnTo>
                  <a:lnTo>
                    <a:pt x="2711" y="3470"/>
                  </a:lnTo>
                  <a:lnTo>
                    <a:pt x="2549" y="3549"/>
                  </a:lnTo>
                  <a:lnTo>
                    <a:pt x="2380" y="3612"/>
                  </a:lnTo>
                  <a:lnTo>
                    <a:pt x="2205" y="3657"/>
                  </a:lnTo>
                  <a:lnTo>
                    <a:pt x="2026" y="3682"/>
                  </a:lnTo>
                  <a:lnTo>
                    <a:pt x="1844" y="3687"/>
                  </a:lnTo>
                  <a:lnTo>
                    <a:pt x="1752" y="3687"/>
                  </a:lnTo>
                  <a:close/>
                </a:path>
              </a:pathLst>
            </a:cu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82160" y="2440080"/>
              <a:ext cx="342360" cy="342000"/>
            </a:xfrm>
            <a:custGeom>
              <a:avLst/>
              <a:gdLst/>
              <a:ahLst/>
              <a:rect l="l" t="t" r="r" b="b"/>
              <a:pathLst>
                <a:path w="3441" h="3441">
                  <a:moveTo>
                    <a:pt x="1635" y="3441"/>
                  </a:moveTo>
                  <a:lnTo>
                    <a:pt x="1635" y="3441"/>
                  </a:lnTo>
                  <a:lnTo>
                    <a:pt x="1471" y="3427"/>
                  </a:lnTo>
                  <a:lnTo>
                    <a:pt x="1311" y="3396"/>
                  </a:lnTo>
                  <a:lnTo>
                    <a:pt x="1155" y="3348"/>
                  </a:lnTo>
                  <a:lnTo>
                    <a:pt x="1005" y="3285"/>
                  </a:lnTo>
                  <a:lnTo>
                    <a:pt x="860" y="3209"/>
                  </a:lnTo>
                  <a:lnTo>
                    <a:pt x="725" y="3119"/>
                  </a:lnTo>
                  <a:lnTo>
                    <a:pt x="597" y="3016"/>
                  </a:lnTo>
                  <a:lnTo>
                    <a:pt x="477" y="2903"/>
                  </a:lnTo>
                  <a:lnTo>
                    <a:pt x="370" y="2779"/>
                  </a:lnTo>
                  <a:lnTo>
                    <a:pt x="273" y="2647"/>
                  </a:lnTo>
                  <a:lnTo>
                    <a:pt x="191" y="2506"/>
                  </a:lnTo>
                  <a:lnTo>
                    <a:pt x="121" y="2359"/>
                  </a:lnTo>
                  <a:lnTo>
                    <a:pt x="66" y="2205"/>
                  </a:lnTo>
                  <a:lnTo>
                    <a:pt x="26" y="2047"/>
                  </a:lnTo>
                  <a:lnTo>
                    <a:pt x="4" y="1885"/>
                  </a:lnTo>
                  <a:lnTo>
                    <a:pt x="0" y="1720"/>
                  </a:lnTo>
                  <a:lnTo>
                    <a:pt x="5" y="1550"/>
                  </a:lnTo>
                  <a:lnTo>
                    <a:pt x="28" y="1382"/>
                  </a:lnTo>
                  <a:lnTo>
                    <a:pt x="70" y="1220"/>
                  </a:lnTo>
                  <a:lnTo>
                    <a:pt x="129" y="1062"/>
                  </a:lnTo>
                  <a:lnTo>
                    <a:pt x="203" y="911"/>
                  </a:lnTo>
                  <a:lnTo>
                    <a:pt x="291" y="766"/>
                  </a:lnTo>
                  <a:lnTo>
                    <a:pt x="394" y="632"/>
                  </a:lnTo>
                  <a:lnTo>
                    <a:pt x="507" y="507"/>
                  </a:lnTo>
                  <a:lnTo>
                    <a:pt x="632" y="392"/>
                  </a:lnTo>
                  <a:lnTo>
                    <a:pt x="768" y="291"/>
                  </a:lnTo>
                  <a:lnTo>
                    <a:pt x="911" y="203"/>
                  </a:lnTo>
                  <a:lnTo>
                    <a:pt x="1062" y="129"/>
                  </a:lnTo>
                  <a:lnTo>
                    <a:pt x="1220" y="70"/>
                  </a:lnTo>
                  <a:lnTo>
                    <a:pt x="1383" y="28"/>
                  </a:lnTo>
                  <a:lnTo>
                    <a:pt x="1550" y="4"/>
                  </a:lnTo>
                  <a:lnTo>
                    <a:pt x="1721" y="0"/>
                  </a:lnTo>
                  <a:lnTo>
                    <a:pt x="1891" y="4"/>
                  </a:lnTo>
                  <a:lnTo>
                    <a:pt x="2058" y="28"/>
                  </a:lnTo>
                  <a:lnTo>
                    <a:pt x="2221" y="70"/>
                  </a:lnTo>
                  <a:lnTo>
                    <a:pt x="2378" y="129"/>
                  </a:lnTo>
                  <a:lnTo>
                    <a:pt x="2530" y="203"/>
                  </a:lnTo>
                  <a:lnTo>
                    <a:pt x="2674" y="291"/>
                  </a:lnTo>
                  <a:lnTo>
                    <a:pt x="2809" y="392"/>
                  </a:lnTo>
                  <a:lnTo>
                    <a:pt x="2933" y="507"/>
                  </a:lnTo>
                  <a:lnTo>
                    <a:pt x="3048" y="632"/>
                  </a:lnTo>
                  <a:lnTo>
                    <a:pt x="3150" y="766"/>
                  </a:lnTo>
                  <a:lnTo>
                    <a:pt x="3238" y="911"/>
                  </a:lnTo>
                  <a:lnTo>
                    <a:pt x="3312" y="1062"/>
                  </a:lnTo>
                  <a:lnTo>
                    <a:pt x="3370" y="1220"/>
                  </a:lnTo>
                  <a:lnTo>
                    <a:pt x="3412" y="1382"/>
                  </a:lnTo>
                  <a:lnTo>
                    <a:pt x="3436" y="1550"/>
                  </a:lnTo>
                  <a:lnTo>
                    <a:pt x="3441" y="1720"/>
                  </a:lnTo>
                  <a:lnTo>
                    <a:pt x="3436" y="1891"/>
                  </a:lnTo>
                  <a:lnTo>
                    <a:pt x="3412" y="2057"/>
                  </a:lnTo>
                  <a:lnTo>
                    <a:pt x="3370" y="2221"/>
                  </a:lnTo>
                  <a:lnTo>
                    <a:pt x="3312" y="2378"/>
                  </a:lnTo>
                  <a:lnTo>
                    <a:pt x="3238" y="2530"/>
                  </a:lnTo>
                  <a:lnTo>
                    <a:pt x="3150" y="2673"/>
                  </a:lnTo>
                  <a:lnTo>
                    <a:pt x="3048" y="2809"/>
                  </a:lnTo>
                  <a:lnTo>
                    <a:pt x="2933" y="2933"/>
                  </a:lnTo>
                  <a:lnTo>
                    <a:pt x="2809" y="3047"/>
                  </a:lnTo>
                  <a:lnTo>
                    <a:pt x="2674" y="3150"/>
                  </a:lnTo>
                  <a:lnTo>
                    <a:pt x="2530" y="3238"/>
                  </a:lnTo>
                  <a:lnTo>
                    <a:pt x="2378" y="3312"/>
                  </a:lnTo>
                  <a:lnTo>
                    <a:pt x="2221" y="3370"/>
                  </a:lnTo>
                  <a:lnTo>
                    <a:pt x="2058" y="3412"/>
                  </a:lnTo>
                  <a:lnTo>
                    <a:pt x="1891" y="3435"/>
                  </a:lnTo>
                  <a:lnTo>
                    <a:pt x="1721" y="3441"/>
                  </a:lnTo>
                  <a:lnTo>
                    <a:pt x="1635" y="3441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95120" y="2451960"/>
              <a:ext cx="317520" cy="318240"/>
            </a:xfrm>
            <a:custGeom>
              <a:avLst/>
              <a:gdLst/>
              <a:ahLst/>
              <a:rect l="l" t="t" r="r" b="b"/>
              <a:pathLst>
                <a:path w="3195" h="3195">
                  <a:moveTo>
                    <a:pt x="1518" y="3195"/>
                  </a:moveTo>
                  <a:lnTo>
                    <a:pt x="1518" y="3195"/>
                  </a:lnTo>
                  <a:lnTo>
                    <a:pt x="1366" y="3183"/>
                  </a:lnTo>
                  <a:lnTo>
                    <a:pt x="1217" y="3155"/>
                  </a:lnTo>
                  <a:lnTo>
                    <a:pt x="1073" y="3110"/>
                  </a:lnTo>
                  <a:lnTo>
                    <a:pt x="933" y="3052"/>
                  </a:lnTo>
                  <a:lnTo>
                    <a:pt x="799" y="2980"/>
                  </a:lnTo>
                  <a:lnTo>
                    <a:pt x="672" y="2896"/>
                  </a:lnTo>
                  <a:lnTo>
                    <a:pt x="553" y="2801"/>
                  </a:lnTo>
                  <a:lnTo>
                    <a:pt x="444" y="2697"/>
                  </a:lnTo>
                  <a:lnTo>
                    <a:pt x="343" y="2582"/>
                  </a:lnTo>
                  <a:lnTo>
                    <a:pt x="254" y="2458"/>
                  </a:lnTo>
                  <a:lnTo>
                    <a:pt x="177" y="2328"/>
                  </a:lnTo>
                  <a:lnTo>
                    <a:pt x="112" y="2191"/>
                  </a:lnTo>
                  <a:lnTo>
                    <a:pt x="61" y="2049"/>
                  </a:lnTo>
                  <a:lnTo>
                    <a:pt x="25" y="1902"/>
                  </a:lnTo>
                  <a:lnTo>
                    <a:pt x="4" y="1751"/>
                  </a:lnTo>
                  <a:lnTo>
                    <a:pt x="0" y="1598"/>
                  </a:lnTo>
                  <a:lnTo>
                    <a:pt x="5" y="1440"/>
                  </a:lnTo>
                  <a:lnTo>
                    <a:pt x="27" y="1284"/>
                  </a:lnTo>
                  <a:lnTo>
                    <a:pt x="65" y="1133"/>
                  </a:lnTo>
                  <a:lnTo>
                    <a:pt x="119" y="986"/>
                  </a:lnTo>
                  <a:lnTo>
                    <a:pt x="188" y="846"/>
                  </a:lnTo>
                  <a:lnTo>
                    <a:pt x="271" y="713"/>
                  </a:lnTo>
                  <a:lnTo>
                    <a:pt x="365" y="587"/>
                  </a:lnTo>
                  <a:lnTo>
                    <a:pt x="471" y="471"/>
                  </a:lnTo>
                  <a:lnTo>
                    <a:pt x="587" y="365"/>
                  </a:lnTo>
                  <a:lnTo>
                    <a:pt x="712" y="270"/>
                  </a:lnTo>
                  <a:lnTo>
                    <a:pt x="845" y="189"/>
                  </a:lnTo>
                  <a:lnTo>
                    <a:pt x="987" y="120"/>
                  </a:lnTo>
                  <a:lnTo>
                    <a:pt x="1132" y="65"/>
                  </a:lnTo>
                  <a:lnTo>
                    <a:pt x="1284" y="27"/>
                  </a:lnTo>
                  <a:lnTo>
                    <a:pt x="1439" y="5"/>
                  </a:lnTo>
                  <a:lnTo>
                    <a:pt x="1598" y="0"/>
                  </a:lnTo>
                  <a:lnTo>
                    <a:pt x="1756" y="5"/>
                  </a:lnTo>
                  <a:lnTo>
                    <a:pt x="1911" y="27"/>
                  </a:lnTo>
                  <a:lnTo>
                    <a:pt x="2062" y="65"/>
                  </a:lnTo>
                  <a:lnTo>
                    <a:pt x="2209" y="120"/>
                  </a:lnTo>
                  <a:lnTo>
                    <a:pt x="2349" y="189"/>
                  </a:lnTo>
                  <a:lnTo>
                    <a:pt x="2483" y="270"/>
                  </a:lnTo>
                  <a:lnTo>
                    <a:pt x="2608" y="365"/>
                  </a:lnTo>
                  <a:lnTo>
                    <a:pt x="2724" y="471"/>
                  </a:lnTo>
                  <a:lnTo>
                    <a:pt x="2830" y="587"/>
                  </a:lnTo>
                  <a:lnTo>
                    <a:pt x="2924" y="713"/>
                  </a:lnTo>
                  <a:lnTo>
                    <a:pt x="3007" y="846"/>
                  </a:lnTo>
                  <a:lnTo>
                    <a:pt x="3075" y="986"/>
                  </a:lnTo>
                  <a:lnTo>
                    <a:pt x="3130" y="1133"/>
                  </a:lnTo>
                  <a:lnTo>
                    <a:pt x="3169" y="1284"/>
                  </a:lnTo>
                  <a:lnTo>
                    <a:pt x="3191" y="1440"/>
                  </a:lnTo>
                  <a:lnTo>
                    <a:pt x="3195" y="1598"/>
                  </a:lnTo>
                  <a:lnTo>
                    <a:pt x="3191" y="1757"/>
                  </a:lnTo>
                  <a:lnTo>
                    <a:pt x="3169" y="1911"/>
                  </a:lnTo>
                  <a:lnTo>
                    <a:pt x="3130" y="2063"/>
                  </a:lnTo>
                  <a:lnTo>
                    <a:pt x="3075" y="2209"/>
                  </a:lnTo>
                  <a:lnTo>
                    <a:pt x="3007" y="2350"/>
                  </a:lnTo>
                  <a:lnTo>
                    <a:pt x="2924" y="2484"/>
                  </a:lnTo>
                  <a:lnTo>
                    <a:pt x="2830" y="2608"/>
                  </a:lnTo>
                  <a:lnTo>
                    <a:pt x="2724" y="2724"/>
                  </a:lnTo>
                  <a:lnTo>
                    <a:pt x="2608" y="2830"/>
                  </a:lnTo>
                  <a:lnTo>
                    <a:pt x="2483" y="2925"/>
                  </a:lnTo>
                  <a:lnTo>
                    <a:pt x="2349" y="3008"/>
                  </a:lnTo>
                  <a:lnTo>
                    <a:pt x="2209" y="3076"/>
                  </a:lnTo>
                  <a:lnTo>
                    <a:pt x="2062" y="3130"/>
                  </a:lnTo>
                  <a:lnTo>
                    <a:pt x="1911" y="3169"/>
                  </a:lnTo>
                  <a:lnTo>
                    <a:pt x="1756" y="3191"/>
                  </a:lnTo>
                  <a:lnTo>
                    <a:pt x="1598" y="3195"/>
                  </a:lnTo>
                  <a:lnTo>
                    <a:pt x="1518" y="319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07000" y="2464920"/>
              <a:ext cx="293760" cy="292680"/>
            </a:xfrm>
            <a:custGeom>
              <a:avLst/>
              <a:gdLst/>
              <a:ahLst/>
              <a:rect l="l" t="t" r="r" b="b"/>
              <a:pathLst>
                <a:path w="2950" h="2950">
                  <a:moveTo>
                    <a:pt x="1401" y="2950"/>
                  </a:moveTo>
                  <a:lnTo>
                    <a:pt x="1401" y="2950"/>
                  </a:lnTo>
                  <a:lnTo>
                    <a:pt x="1261" y="2938"/>
                  </a:lnTo>
                  <a:lnTo>
                    <a:pt x="1124" y="2911"/>
                  </a:lnTo>
                  <a:lnTo>
                    <a:pt x="989" y="2870"/>
                  </a:lnTo>
                  <a:lnTo>
                    <a:pt x="861" y="2817"/>
                  </a:lnTo>
                  <a:lnTo>
                    <a:pt x="738" y="2751"/>
                  </a:lnTo>
                  <a:lnTo>
                    <a:pt x="621" y="2674"/>
                  </a:lnTo>
                  <a:lnTo>
                    <a:pt x="511" y="2586"/>
                  </a:lnTo>
                  <a:lnTo>
                    <a:pt x="409" y="2489"/>
                  </a:lnTo>
                  <a:lnTo>
                    <a:pt x="316" y="2383"/>
                  </a:lnTo>
                  <a:lnTo>
                    <a:pt x="235" y="2269"/>
                  </a:lnTo>
                  <a:lnTo>
                    <a:pt x="163" y="2149"/>
                  </a:lnTo>
                  <a:lnTo>
                    <a:pt x="103" y="2023"/>
                  </a:lnTo>
                  <a:lnTo>
                    <a:pt x="56" y="1891"/>
                  </a:lnTo>
                  <a:lnTo>
                    <a:pt x="23" y="1755"/>
                  </a:lnTo>
                  <a:lnTo>
                    <a:pt x="3" y="1616"/>
                  </a:lnTo>
                  <a:lnTo>
                    <a:pt x="0" y="1475"/>
                  </a:lnTo>
                  <a:lnTo>
                    <a:pt x="4" y="1329"/>
                  </a:lnTo>
                  <a:lnTo>
                    <a:pt x="24" y="1186"/>
                  </a:lnTo>
                  <a:lnTo>
                    <a:pt x="60" y="1046"/>
                  </a:lnTo>
                  <a:lnTo>
                    <a:pt x="110" y="911"/>
                  </a:lnTo>
                  <a:lnTo>
                    <a:pt x="174" y="781"/>
                  </a:lnTo>
                  <a:lnTo>
                    <a:pt x="249" y="658"/>
                  </a:lnTo>
                  <a:lnTo>
                    <a:pt x="337" y="542"/>
                  </a:lnTo>
                  <a:lnTo>
                    <a:pt x="434" y="435"/>
                  </a:lnTo>
                  <a:lnTo>
                    <a:pt x="541" y="337"/>
                  </a:lnTo>
                  <a:lnTo>
                    <a:pt x="657" y="250"/>
                  </a:lnTo>
                  <a:lnTo>
                    <a:pt x="781" y="174"/>
                  </a:lnTo>
                  <a:lnTo>
                    <a:pt x="910" y="111"/>
                  </a:lnTo>
                  <a:lnTo>
                    <a:pt x="1046" y="60"/>
                  </a:lnTo>
                  <a:lnTo>
                    <a:pt x="1186" y="25"/>
                  </a:lnTo>
                  <a:lnTo>
                    <a:pt x="1328" y="4"/>
                  </a:lnTo>
                  <a:lnTo>
                    <a:pt x="1475" y="0"/>
                  </a:lnTo>
                  <a:lnTo>
                    <a:pt x="1620" y="4"/>
                  </a:lnTo>
                  <a:lnTo>
                    <a:pt x="1764" y="25"/>
                  </a:lnTo>
                  <a:lnTo>
                    <a:pt x="1904" y="60"/>
                  </a:lnTo>
                  <a:lnTo>
                    <a:pt x="2039" y="111"/>
                  </a:lnTo>
                  <a:lnTo>
                    <a:pt x="2169" y="174"/>
                  </a:lnTo>
                  <a:lnTo>
                    <a:pt x="2291" y="250"/>
                  </a:lnTo>
                  <a:lnTo>
                    <a:pt x="2407" y="337"/>
                  </a:lnTo>
                  <a:lnTo>
                    <a:pt x="2514" y="435"/>
                  </a:lnTo>
                  <a:lnTo>
                    <a:pt x="2612" y="542"/>
                  </a:lnTo>
                  <a:lnTo>
                    <a:pt x="2699" y="658"/>
                  </a:lnTo>
                  <a:lnTo>
                    <a:pt x="2776" y="781"/>
                  </a:lnTo>
                  <a:lnTo>
                    <a:pt x="2838" y="911"/>
                  </a:lnTo>
                  <a:lnTo>
                    <a:pt x="2889" y="1046"/>
                  </a:lnTo>
                  <a:lnTo>
                    <a:pt x="2925" y="1186"/>
                  </a:lnTo>
                  <a:lnTo>
                    <a:pt x="2946" y="1329"/>
                  </a:lnTo>
                  <a:lnTo>
                    <a:pt x="2950" y="1475"/>
                  </a:lnTo>
                  <a:lnTo>
                    <a:pt x="2946" y="1621"/>
                  </a:lnTo>
                  <a:lnTo>
                    <a:pt x="2925" y="1764"/>
                  </a:lnTo>
                  <a:lnTo>
                    <a:pt x="2889" y="1904"/>
                  </a:lnTo>
                  <a:lnTo>
                    <a:pt x="2838" y="2040"/>
                  </a:lnTo>
                  <a:lnTo>
                    <a:pt x="2776" y="2169"/>
                  </a:lnTo>
                  <a:lnTo>
                    <a:pt x="2699" y="2292"/>
                  </a:lnTo>
                  <a:lnTo>
                    <a:pt x="2612" y="2408"/>
                  </a:lnTo>
                  <a:lnTo>
                    <a:pt x="2514" y="2515"/>
                  </a:lnTo>
                  <a:lnTo>
                    <a:pt x="2407" y="2612"/>
                  </a:lnTo>
                  <a:lnTo>
                    <a:pt x="2291" y="2701"/>
                  </a:lnTo>
                  <a:lnTo>
                    <a:pt x="2169" y="2776"/>
                  </a:lnTo>
                  <a:lnTo>
                    <a:pt x="2039" y="2840"/>
                  </a:lnTo>
                  <a:lnTo>
                    <a:pt x="1904" y="2889"/>
                  </a:lnTo>
                  <a:lnTo>
                    <a:pt x="1764" y="2926"/>
                  </a:lnTo>
                  <a:lnTo>
                    <a:pt x="1620" y="2945"/>
                  </a:lnTo>
                  <a:lnTo>
                    <a:pt x="1475" y="2950"/>
                  </a:lnTo>
                  <a:lnTo>
                    <a:pt x="1401" y="2950"/>
                  </a:lnTo>
                  <a:close/>
                </a:path>
              </a:pathLst>
            </a:custGeom>
            <a:solidFill>
              <a:srgbClr val="ff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18880" y="2476800"/>
              <a:ext cx="268920" cy="268920"/>
            </a:xfrm>
            <a:custGeom>
              <a:avLst/>
              <a:gdLst/>
              <a:ahLst/>
              <a:rect l="l" t="t" r="r" b="b"/>
              <a:pathLst>
                <a:path w="2704" h="2704">
                  <a:moveTo>
                    <a:pt x="1353" y="2704"/>
                  </a:moveTo>
                  <a:lnTo>
                    <a:pt x="1218" y="2700"/>
                  </a:lnTo>
                  <a:lnTo>
                    <a:pt x="1087" y="2681"/>
                  </a:lnTo>
                  <a:lnTo>
                    <a:pt x="959" y="2649"/>
                  </a:lnTo>
                  <a:lnTo>
                    <a:pt x="835" y="2603"/>
                  </a:lnTo>
                  <a:lnTo>
                    <a:pt x="716" y="2544"/>
                  </a:lnTo>
                  <a:lnTo>
                    <a:pt x="604" y="2475"/>
                  </a:lnTo>
                  <a:lnTo>
                    <a:pt x="498" y="2395"/>
                  </a:lnTo>
                  <a:lnTo>
                    <a:pt x="400" y="2305"/>
                  </a:lnTo>
                  <a:lnTo>
                    <a:pt x="309" y="2207"/>
                  </a:lnTo>
                  <a:lnTo>
                    <a:pt x="230" y="2101"/>
                  </a:lnTo>
                  <a:lnTo>
                    <a:pt x="160" y="1988"/>
                  </a:lnTo>
                  <a:lnTo>
                    <a:pt x="102" y="1869"/>
                  </a:lnTo>
                  <a:lnTo>
                    <a:pt x="55" y="1746"/>
                  </a:lnTo>
                  <a:lnTo>
                    <a:pt x="23" y="1618"/>
                  </a:lnTo>
                  <a:lnTo>
                    <a:pt x="5" y="1485"/>
                  </a:lnTo>
                  <a:lnTo>
                    <a:pt x="0" y="1352"/>
                  </a:lnTo>
                  <a:lnTo>
                    <a:pt x="5" y="1218"/>
                  </a:lnTo>
                  <a:lnTo>
                    <a:pt x="23" y="1087"/>
                  </a:lnTo>
                  <a:lnTo>
                    <a:pt x="55" y="959"/>
                  </a:lnTo>
                  <a:lnTo>
                    <a:pt x="102" y="834"/>
                  </a:lnTo>
                  <a:lnTo>
                    <a:pt x="160" y="716"/>
                  </a:lnTo>
                  <a:lnTo>
                    <a:pt x="230" y="603"/>
                  </a:lnTo>
                  <a:lnTo>
                    <a:pt x="309" y="497"/>
                  </a:lnTo>
                  <a:lnTo>
                    <a:pt x="400" y="398"/>
                  </a:lnTo>
                  <a:lnTo>
                    <a:pt x="498" y="309"/>
                  </a:lnTo>
                  <a:lnTo>
                    <a:pt x="604" y="229"/>
                  </a:lnTo>
                  <a:lnTo>
                    <a:pt x="716" y="159"/>
                  </a:lnTo>
                  <a:lnTo>
                    <a:pt x="835" y="102"/>
                  </a:lnTo>
                  <a:lnTo>
                    <a:pt x="959" y="55"/>
                  </a:lnTo>
                  <a:lnTo>
                    <a:pt x="1087" y="22"/>
                  </a:lnTo>
                  <a:lnTo>
                    <a:pt x="1218" y="3"/>
                  </a:lnTo>
                  <a:lnTo>
                    <a:pt x="1353" y="0"/>
                  </a:lnTo>
                  <a:lnTo>
                    <a:pt x="1486" y="3"/>
                  </a:lnTo>
                  <a:lnTo>
                    <a:pt x="1618" y="22"/>
                  </a:lnTo>
                  <a:lnTo>
                    <a:pt x="1746" y="55"/>
                  </a:lnTo>
                  <a:lnTo>
                    <a:pt x="1870" y="102"/>
                  </a:lnTo>
                  <a:lnTo>
                    <a:pt x="1988" y="159"/>
                  </a:lnTo>
                  <a:lnTo>
                    <a:pt x="2102" y="229"/>
                  </a:lnTo>
                  <a:lnTo>
                    <a:pt x="2208" y="309"/>
                  </a:lnTo>
                  <a:lnTo>
                    <a:pt x="2306" y="398"/>
                  </a:lnTo>
                  <a:lnTo>
                    <a:pt x="2395" y="497"/>
                  </a:lnTo>
                  <a:lnTo>
                    <a:pt x="2475" y="603"/>
                  </a:lnTo>
                  <a:lnTo>
                    <a:pt x="2545" y="716"/>
                  </a:lnTo>
                  <a:lnTo>
                    <a:pt x="2603" y="834"/>
                  </a:lnTo>
                  <a:lnTo>
                    <a:pt x="2649" y="959"/>
                  </a:lnTo>
                  <a:lnTo>
                    <a:pt x="2682" y="1087"/>
                  </a:lnTo>
                  <a:lnTo>
                    <a:pt x="2701" y="1218"/>
                  </a:lnTo>
                  <a:lnTo>
                    <a:pt x="2704" y="1352"/>
                  </a:lnTo>
                  <a:lnTo>
                    <a:pt x="2701" y="1485"/>
                  </a:lnTo>
                  <a:lnTo>
                    <a:pt x="2682" y="1618"/>
                  </a:lnTo>
                  <a:lnTo>
                    <a:pt x="2649" y="1746"/>
                  </a:lnTo>
                  <a:lnTo>
                    <a:pt x="2603" y="1869"/>
                  </a:lnTo>
                  <a:lnTo>
                    <a:pt x="2545" y="1988"/>
                  </a:lnTo>
                  <a:lnTo>
                    <a:pt x="2475" y="2101"/>
                  </a:lnTo>
                  <a:lnTo>
                    <a:pt x="2395" y="2207"/>
                  </a:lnTo>
                  <a:lnTo>
                    <a:pt x="2306" y="2305"/>
                  </a:lnTo>
                  <a:lnTo>
                    <a:pt x="2208" y="2395"/>
                  </a:lnTo>
                  <a:lnTo>
                    <a:pt x="2102" y="2475"/>
                  </a:lnTo>
                  <a:lnTo>
                    <a:pt x="1988" y="2544"/>
                  </a:lnTo>
                  <a:lnTo>
                    <a:pt x="1870" y="2603"/>
                  </a:lnTo>
                  <a:lnTo>
                    <a:pt x="1746" y="2649"/>
                  </a:lnTo>
                  <a:lnTo>
                    <a:pt x="1618" y="2681"/>
                  </a:lnTo>
                  <a:lnTo>
                    <a:pt x="1486" y="2700"/>
                  </a:lnTo>
                  <a:lnTo>
                    <a:pt x="1353" y="2704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1840" y="2488680"/>
              <a:ext cx="244080" cy="245160"/>
            </a:xfrm>
            <a:custGeom>
              <a:avLst/>
              <a:gdLst/>
              <a:ahLst/>
              <a:rect l="l" t="t" r="r" b="b"/>
              <a:pathLst>
                <a:path w="2458" h="2458">
                  <a:moveTo>
                    <a:pt x="1229" y="2458"/>
                  </a:moveTo>
                  <a:lnTo>
                    <a:pt x="1106" y="2455"/>
                  </a:lnTo>
                  <a:lnTo>
                    <a:pt x="987" y="2438"/>
                  </a:lnTo>
                  <a:lnTo>
                    <a:pt x="871" y="2408"/>
                  </a:lnTo>
                  <a:lnTo>
                    <a:pt x="759" y="2366"/>
                  </a:lnTo>
                  <a:lnTo>
                    <a:pt x="650" y="2313"/>
                  </a:lnTo>
                  <a:lnTo>
                    <a:pt x="547" y="2250"/>
                  </a:lnTo>
                  <a:lnTo>
                    <a:pt x="451" y="2178"/>
                  </a:lnTo>
                  <a:lnTo>
                    <a:pt x="362" y="2096"/>
                  </a:lnTo>
                  <a:lnTo>
                    <a:pt x="280" y="2007"/>
                  </a:lnTo>
                  <a:lnTo>
                    <a:pt x="207" y="1909"/>
                  </a:lnTo>
                  <a:lnTo>
                    <a:pt x="144" y="1807"/>
                  </a:lnTo>
                  <a:lnTo>
                    <a:pt x="91" y="1699"/>
                  </a:lnTo>
                  <a:lnTo>
                    <a:pt x="49" y="1586"/>
                  </a:lnTo>
                  <a:lnTo>
                    <a:pt x="20" y="1470"/>
                  </a:lnTo>
                  <a:lnTo>
                    <a:pt x="3" y="1351"/>
                  </a:lnTo>
                  <a:lnTo>
                    <a:pt x="0" y="1229"/>
                  </a:lnTo>
                  <a:lnTo>
                    <a:pt x="3" y="1107"/>
                  </a:lnTo>
                  <a:lnTo>
                    <a:pt x="20" y="988"/>
                  </a:lnTo>
                  <a:lnTo>
                    <a:pt x="49" y="871"/>
                  </a:lnTo>
                  <a:lnTo>
                    <a:pt x="91" y="759"/>
                  </a:lnTo>
                  <a:lnTo>
                    <a:pt x="144" y="651"/>
                  </a:lnTo>
                  <a:lnTo>
                    <a:pt x="207" y="548"/>
                  </a:lnTo>
                  <a:lnTo>
                    <a:pt x="280" y="452"/>
                  </a:lnTo>
                  <a:lnTo>
                    <a:pt x="362" y="363"/>
                  </a:lnTo>
                  <a:lnTo>
                    <a:pt x="451" y="281"/>
                  </a:lnTo>
                  <a:lnTo>
                    <a:pt x="547" y="208"/>
                  </a:lnTo>
                  <a:lnTo>
                    <a:pt x="650" y="145"/>
                  </a:lnTo>
                  <a:lnTo>
                    <a:pt x="759" y="92"/>
                  </a:lnTo>
                  <a:lnTo>
                    <a:pt x="871" y="50"/>
                  </a:lnTo>
                  <a:lnTo>
                    <a:pt x="987" y="21"/>
                  </a:lnTo>
                  <a:lnTo>
                    <a:pt x="1106" y="3"/>
                  </a:lnTo>
                  <a:lnTo>
                    <a:pt x="1229" y="0"/>
                  </a:lnTo>
                  <a:lnTo>
                    <a:pt x="1350" y="3"/>
                  </a:lnTo>
                  <a:lnTo>
                    <a:pt x="1469" y="21"/>
                  </a:lnTo>
                  <a:lnTo>
                    <a:pt x="1586" y="50"/>
                  </a:lnTo>
                  <a:lnTo>
                    <a:pt x="1699" y="92"/>
                  </a:lnTo>
                  <a:lnTo>
                    <a:pt x="1807" y="145"/>
                  </a:lnTo>
                  <a:lnTo>
                    <a:pt x="1910" y="208"/>
                  </a:lnTo>
                  <a:lnTo>
                    <a:pt x="2006" y="281"/>
                  </a:lnTo>
                  <a:lnTo>
                    <a:pt x="2095" y="363"/>
                  </a:lnTo>
                  <a:lnTo>
                    <a:pt x="2177" y="452"/>
                  </a:lnTo>
                  <a:lnTo>
                    <a:pt x="2249" y="548"/>
                  </a:lnTo>
                  <a:lnTo>
                    <a:pt x="2312" y="651"/>
                  </a:lnTo>
                  <a:lnTo>
                    <a:pt x="2365" y="759"/>
                  </a:lnTo>
                  <a:lnTo>
                    <a:pt x="2407" y="871"/>
                  </a:lnTo>
                  <a:lnTo>
                    <a:pt x="2437" y="988"/>
                  </a:lnTo>
                  <a:lnTo>
                    <a:pt x="2455" y="1107"/>
                  </a:lnTo>
                  <a:lnTo>
                    <a:pt x="2458" y="1229"/>
                  </a:lnTo>
                  <a:lnTo>
                    <a:pt x="2455" y="1351"/>
                  </a:lnTo>
                  <a:lnTo>
                    <a:pt x="2437" y="1470"/>
                  </a:lnTo>
                  <a:lnTo>
                    <a:pt x="2407" y="1586"/>
                  </a:lnTo>
                  <a:lnTo>
                    <a:pt x="2365" y="1699"/>
                  </a:lnTo>
                  <a:lnTo>
                    <a:pt x="2312" y="1807"/>
                  </a:lnTo>
                  <a:lnTo>
                    <a:pt x="2249" y="1909"/>
                  </a:lnTo>
                  <a:lnTo>
                    <a:pt x="2177" y="2007"/>
                  </a:lnTo>
                  <a:lnTo>
                    <a:pt x="2095" y="2096"/>
                  </a:lnTo>
                  <a:lnTo>
                    <a:pt x="2006" y="2178"/>
                  </a:lnTo>
                  <a:lnTo>
                    <a:pt x="1910" y="2250"/>
                  </a:lnTo>
                  <a:lnTo>
                    <a:pt x="1807" y="2313"/>
                  </a:lnTo>
                  <a:lnTo>
                    <a:pt x="1699" y="2366"/>
                  </a:lnTo>
                  <a:lnTo>
                    <a:pt x="1586" y="2408"/>
                  </a:lnTo>
                  <a:lnTo>
                    <a:pt x="1469" y="2438"/>
                  </a:lnTo>
                  <a:lnTo>
                    <a:pt x="1350" y="2455"/>
                  </a:lnTo>
                  <a:lnTo>
                    <a:pt x="1229" y="2458"/>
                  </a:lnTo>
                  <a:close/>
                </a:path>
              </a:pathLst>
            </a:custGeom>
            <a:solidFill>
              <a:srgbClr val="ff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43720" y="2501280"/>
              <a:ext cx="220320" cy="219600"/>
            </a:xfrm>
            <a:custGeom>
              <a:avLst/>
              <a:gdLst/>
              <a:ahLst/>
              <a:rect l="l" t="t" r="r" b="b"/>
              <a:pathLst>
                <a:path w="2213" h="2213">
                  <a:moveTo>
                    <a:pt x="1107" y="2213"/>
                  </a:moveTo>
                  <a:lnTo>
                    <a:pt x="998" y="2210"/>
                  </a:lnTo>
                  <a:lnTo>
                    <a:pt x="889" y="2195"/>
                  </a:lnTo>
                  <a:lnTo>
                    <a:pt x="785" y="2168"/>
                  </a:lnTo>
                  <a:lnTo>
                    <a:pt x="683" y="2131"/>
                  </a:lnTo>
                  <a:lnTo>
                    <a:pt x="586" y="2083"/>
                  </a:lnTo>
                  <a:lnTo>
                    <a:pt x="493" y="2026"/>
                  </a:lnTo>
                  <a:lnTo>
                    <a:pt x="407" y="1961"/>
                  </a:lnTo>
                  <a:lnTo>
                    <a:pt x="327" y="1887"/>
                  </a:lnTo>
                  <a:lnTo>
                    <a:pt x="253" y="1806"/>
                  </a:lnTo>
                  <a:lnTo>
                    <a:pt x="188" y="1720"/>
                  </a:lnTo>
                  <a:lnTo>
                    <a:pt x="130" y="1627"/>
                  </a:lnTo>
                  <a:lnTo>
                    <a:pt x="83" y="1530"/>
                  </a:lnTo>
                  <a:lnTo>
                    <a:pt x="45" y="1429"/>
                  </a:lnTo>
                  <a:lnTo>
                    <a:pt x="19" y="1324"/>
                  </a:lnTo>
                  <a:lnTo>
                    <a:pt x="4" y="1216"/>
                  </a:lnTo>
                  <a:lnTo>
                    <a:pt x="0" y="1107"/>
                  </a:lnTo>
                  <a:lnTo>
                    <a:pt x="4" y="997"/>
                  </a:lnTo>
                  <a:lnTo>
                    <a:pt x="19" y="890"/>
                  </a:lnTo>
                  <a:lnTo>
                    <a:pt x="45" y="786"/>
                  </a:lnTo>
                  <a:lnTo>
                    <a:pt x="83" y="684"/>
                  </a:lnTo>
                  <a:lnTo>
                    <a:pt x="130" y="587"/>
                  </a:lnTo>
                  <a:lnTo>
                    <a:pt x="188" y="494"/>
                  </a:lnTo>
                  <a:lnTo>
                    <a:pt x="253" y="407"/>
                  </a:lnTo>
                  <a:lnTo>
                    <a:pt x="327" y="327"/>
                  </a:lnTo>
                  <a:lnTo>
                    <a:pt x="407" y="254"/>
                  </a:lnTo>
                  <a:lnTo>
                    <a:pt x="493" y="188"/>
                  </a:lnTo>
                  <a:lnTo>
                    <a:pt x="586" y="131"/>
                  </a:lnTo>
                  <a:lnTo>
                    <a:pt x="683" y="84"/>
                  </a:lnTo>
                  <a:lnTo>
                    <a:pt x="785" y="46"/>
                  </a:lnTo>
                  <a:lnTo>
                    <a:pt x="889" y="19"/>
                  </a:lnTo>
                  <a:lnTo>
                    <a:pt x="998" y="3"/>
                  </a:lnTo>
                  <a:lnTo>
                    <a:pt x="1107" y="0"/>
                  </a:lnTo>
                  <a:lnTo>
                    <a:pt x="1216" y="3"/>
                  </a:lnTo>
                  <a:lnTo>
                    <a:pt x="1323" y="19"/>
                  </a:lnTo>
                  <a:lnTo>
                    <a:pt x="1428" y="46"/>
                  </a:lnTo>
                  <a:lnTo>
                    <a:pt x="1529" y="84"/>
                  </a:lnTo>
                  <a:lnTo>
                    <a:pt x="1626" y="131"/>
                  </a:lnTo>
                  <a:lnTo>
                    <a:pt x="1719" y="188"/>
                  </a:lnTo>
                  <a:lnTo>
                    <a:pt x="1806" y="254"/>
                  </a:lnTo>
                  <a:lnTo>
                    <a:pt x="1887" y="327"/>
                  </a:lnTo>
                  <a:lnTo>
                    <a:pt x="1960" y="407"/>
                  </a:lnTo>
                  <a:lnTo>
                    <a:pt x="2026" y="494"/>
                  </a:lnTo>
                  <a:lnTo>
                    <a:pt x="2082" y="587"/>
                  </a:lnTo>
                  <a:lnTo>
                    <a:pt x="2130" y="684"/>
                  </a:lnTo>
                  <a:lnTo>
                    <a:pt x="2167" y="786"/>
                  </a:lnTo>
                  <a:lnTo>
                    <a:pt x="2195" y="890"/>
                  </a:lnTo>
                  <a:lnTo>
                    <a:pt x="2210" y="997"/>
                  </a:lnTo>
                  <a:lnTo>
                    <a:pt x="2213" y="1107"/>
                  </a:lnTo>
                  <a:lnTo>
                    <a:pt x="2210" y="1216"/>
                  </a:lnTo>
                  <a:lnTo>
                    <a:pt x="2195" y="1324"/>
                  </a:lnTo>
                  <a:lnTo>
                    <a:pt x="2167" y="1429"/>
                  </a:lnTo>
                  <a:lnTo>
                    <a:pt x="2130" y="1530"/>
                  </a:lnTo>
                  <a:lnTo>
                    <a:pt x="2082" y="1627"/>
                  </a:lnTo>
                  <a:lnTo>
                    <a:pt x="2026" y="1720"/>
                  </a:lnTo>
                  <a:lnTo>
                    <a:pt x="1960" y="1806"/>
                  </a:lnTo>
                  <a:lnTo>
                    <a:pt x="1887" y="1887"/>
                  </a:lnTo>
                  <a:lnTo>
                    <a:pt x="1806" y="1961"/>
                  </a:lnTo>
                  <a:lnTo>
                    <a:pt x="1719" y="2026"/>
                  </a:lnTo>
                  <a:lnTo>
                    <a:pt x="1626" y="2083"/>
                  </a:lnTo>
                  <a:lnTo>
                    <a:pt x="1529" y="2131"/>
                  </a:lnTo>
                  <a:lnTo>
                    <a:pt x="1428" y="2168"/>
                  </a:lnTo>
                  <a:lnTo>
                    <a:pt x="1323" y="2195"/>
                  </a:lnTo>
                  <a:lnTo>
                    <a:pt x="1216" y="2210"/>
                  </a:lnTo>
                  <a:lnTo>
                    <a:pt x="1107" y="2213"/>
                  </a:lnTo>
                  <a:close/>
                </a:path>
              </a:pathLst>
            </a:cu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5600" y="2513520"/>
              <a:ext cx="195840" cy="195480"/>
            </a:xfrm>
            <a:custGeom>
              <a:avLst/>
              <a:gdLst/>
              <a:ahLst/>
              <a:rect l="l" t="t" r="r" b="b"/>
              <a:pathLst>
                <a:path w="1967" h="1967">
                  <a:moveTo>
                    <a:pt x="984" y="1967"/>
                  </a:moveTo>
                  <a:lnTo>
                    <a:pt x="886" y="1964"/>
                  </a:lnTo>
                  <a:lnTo>
                    <a:pt x="791" y="1950"/>
                  </a:lnTo>
                  <a:lnTo>
                    <a:pt x="697" y="1926"/>
                  </a:lnTo>
                  <a:lnTo>
                    <a:pt x="608" y="1893"/>
                  </a:lnTo>
                  <a:lnTo>
                    <a:pt x="520" y="1851"/>
                  </a:lnTo>
                  <a:lnTo>
                    <a:pt x="439" y="1800"/>
                  </a:lnTo>
                  <a:lnTo>
                    <a:pt x="362" y="1742"/>
                  </a:lnTo>
                  <a:lnTo>
                    <a:pt x="290" y="1677"/>
                  </a:lnTo>
                  <a:lnTo>
                    <a:pt x="225" y="1605"/>
                  </a:lnTo>
                  <a:lnTo>
                    <a:pt x="166" y="1528"/>
                  </a:lnTo>
                  <a:lnTo>
                    <a:pt x="116" y="1446"/>
                  </a:lnTo>
                  <a:lnTo>
                    <a:pt x="74" y="1359"/>
                  </a:lnTo>
                  <a:lnTo>
                    <a:pt x="40" y="1270"/>
                  </a:lnTo>
                  <a:lnTo>
                    <a:pt x="16" y="1176"/>
                  </a:lnTo>
                  <a:lnTo>
                    <a:pt x="3" y="1080"/>
                  </a:lnTo>
                  <a:lnTo>
                    <a:pt x="0" y="983"/>
                  </a:lnTo>
                  <a:lnTo>
                    <a:pt x="3" y="886"/>
                  </a:lnTo>
                  <a:lnTo>
                    <a:pt x="16" y="790"/>
                  </a:lnTo>
                  <a:lnTo>
                    <a:pt x="40" y="697"/>
                  </a:lnTo>
                  <a:lnTo>
                    <a:pt x="74" y="606"/>
                  </a:lnTo>
                  <a:lnTo>
                    <a:pt x="116" y="520"/>
                  </a:lnTo>
                  <a:lnTo>
                    <a:pt x="166" y="438"/>
                  </a:lnTo>
                  <a:lnTo>
                    <a:pt x="225" y="362"/>
                  </a:lnTo>
                  <a:lnTo>
                    <a:pt x="290" y="290"/>
                  </a:lnTo>
                  <a:lnTo>
                    <a:pt x="362" y="225"/>
                  </a:lnTo>
                  <a:lnTo>
                    <a:pt x="439" y="166"/>
                  </a:lnTo>
                  <a:lnTo>
                    <a:pt x="520" y="116"/>
                  </a:lnTo>
                  <a:lnTo>
                    <a:pt x="608" y="74"/>
                  </a:lnTo>
                  <a:lnTo>
                    <a:pt x="697" y="39"/>
                  </a:lnTo>
                  <a:lnTo>
                    <a:pt x="791" y="16"/>
                  </a:lnTo>
                  <a:lnTo>
                    <a:pt x="886" y="2"/>
                  </a:lnTo>
                  <a:lnTo>
                    <a:pt x="984" y="0"/>
                  </a:lnTo>
                  <a:lnTo>
                    <a:pt x="1081" y="2"/>
                  </a:lnTo>
                  <a:lnTo>
                    <a:pt x="1177" y="16"/>
                  </a:lnTo>
                  <a:lnTo>
                    <a:pt x="1270" y="39"/>
                  </a:lnTo>
                  <a:lnTo>
                    <a:pt x="1360" y="74"/>
                  </a:lnTo>
                  <a:lnTo>
                    <a:pt x="1446" y="116"/>
                  </a:lnTo>
                  <a:lnTo>
                    <a:pt x="1529" y="166"/>
                  </a:lnTo>
                  <a:lnTo>
                    <a:pt x="1605" y="225"/>
                  </a:lnTo>
                  <a:lnTo>
                    <a:pt x="1677" y="290"/>
                  </a:lnTo>
                  <a:lnTo>
                    <a:pt x="1742" y="362"/>
                  </a:lnTo>
                  <a:lnTo>
                    <a:pt x="1800" y="438"/>
                  </a:lnTo>
                  <a:lnTo>
                    <a:pt x="1851" y="520"/>
                  </a:lnTo>
                  <a:lnTo>
                    <a:pt x="1893" y="606"/>
                  </a:lnTo>
                  <a:lnTo>
                    <a:pt x="1927" y="697"/>
                  </a:lnTo>
                  <a:lnTo>
                    <a:pt x="1950" y="790"/>
                  </a:lnTo>
                  <a:lnTo>
                    <a:pt x="1965" y="886"/>
                  </a:lnTo>
                  <a:lnTo>
                    <a:pt x="1967" y="983"/>
                  </a:lnTo>
                  <a:lnTo>
                    <a:pt x="1965" y="1080"/>
                  </a:lnTo>
                  <a:lnTo>
                    <a:pt x="1950" y="1176"/>
                  </a:lnTo>
                  <a:lnTo>
                    <a:pt x="1927" y="1270"/>
                  </a:lnTo>
                  <a:lnTo>
                    <a:pt x="1893" y="1359"/>
                  </a:lnTo>
                  <a:lnTo>
                    <a:pt x="1851" y="1446"/>
                  </a:lnTo>
                  <a:lnTo>
                    <a:pt x="1800" y="1528"/>
                  </a:lnTo>
                  <a:lnTo>
                    <a:pt x="1742" y="1605"/>
                  </a:lnTo>
                  <a:lnTo>
                    <a:pt x="1677" y="1677"/>
                  </a:lnTo>
                  <a:lnTo>
                    <a:pt x="1605" y="1742"/>
                  </a:lnTo>
                  <a:lnTo>
                    <a:pt x="1529" y="1800"/>
                  </a:lnTo>
                  <a:lnTo>
                    <a:pt x="1446" y="1851"/>
                  </a:lnTo>
                  <a:lnTo>
                    <a:pt x="1360" y="1893"/>
                  </a:lnTo>
                  <a:lnTo>
                    <a:pt x="1270" y="1926"/>
                  </a:lnTo>
                  <a:lnTo>
                    <a:pt x="1177" y="1950"/>
                  </a:lnTo>
                  <a:lnTo>
                    <a:pt x="1081" y="1964"/>
                  </a:lnTo>
                  <a:lnTo>
                    <a:pt x="984" y="1967"/>
                  </a:lnTo>
                  <a:close/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68200" y="2525400"/>
              <a:ext cx="171360" cy="171720"/>
            </a:xfrm>
            <a:custGeom>
              <a:avLst/>
              <a:gdLst/>
              <a:ahLst/>
              <a:rect l="l" t="t" r="r" b="b"/>
              <a:pathLst>
                <a:path w="1721" h="1721">
                  <a:moveTo>
                    <a:pt x="861" y="1721"/>
                  </a:moveTo>
                  <a:lnTo>
                    <a:pt x="692" y="1707"/>
                  </a:lnTo>
                  <a:lnTo>
                    <a:pt x="531" y="1657"/>
                  </a:lnTo>
                  <a:lnTo>
                    <a:pt x="384" y="1576"/>
                  </a:lnTo>
                  <a:lnTo>
                    <a:pt x="254" y="1468"/>
                  </a:lnTo>
                  <a:lnTo>
                    <a:pt x="146" y="1337"/>
                  </a:lnTo>
                  <a:lnTo>
                    <a:pt x="64" y="1191"/>
                  </a:lnTo>
                  <a:lnTo>
                    <a:pt x="15" y="1030"/>
                  </a:lnTo>
                  <a:lnTo>
                    <a:pt x="0" y="861"/>
                  </a:lnTo>
                  <a:lnTo>
                    <a:pt x="15" y="692"/>
                  </a:lnTo>
                  <a:lnTo>
                    <a:pt x="64" y="532"/>
                  </a:lnTo>
                  <a:lnTo>
                    <a:pt x="146" y="384"/>
                  </a:lnTo>
                  <a:lnTo>
                    <a:pt x="254" y="254"/>
                  </a:lnTo>
                  <a:lnTo>
                    <a:pt x="384" y="146"/>
                  </a:lnTo>
                  <a:lnTo>
                    <a:pt x="531" y="65"/>
                  </a:lnTo>
                  <a:lnTo>
                    <a:pt x="692" y="14"/>
                  </a:lnTo>
                  <a:lnTo>
                    <a:pt x="861" y="0"/>
                  </a:lnTo>
                  <a:lnTo>
                    <a:pt x="1030" y="14"/>
                  </a:lnTo>
                  <a:lnTo>
                    <a:pt x="1190" y="65"/>
                  </a:lnTo>
                  <a:lnTo>
                    <a:pt x="1337" y="146"/>
                  </a:lnTo>
                  <a:lnTo>
                    <a:pt x="1468" y="254"/>
                  </a:lnTo>
                  <a:lnTo>
                    <a:pt x="1576" y="384"/>
                  </a:lnTo>
                  <a:lnTo>
                    <a:pt x="1656" y="532"/>
                  </a:lnTo>
                  <a:lnTo>
                    <a:pt x="1707" y="692"/>
                  </a:lnTo>
                  <a:lnTo>
                    <a:pt x="1721" y="861"/>
                  </a:lnTo>
                  <a:lnTo>
                    <a:pt x="1707" y="1030"/>
                  </a:lnTo>
                  <a:lnTo>
                    <a:pt x="1656" y="1191"/>
                  </a:lnTo>
                  <a:lnTo>
                    <a:pt x="1576" y="1337"/>
                  </a:lnTo>
                  <a:lnTo>
                    <a:pt x="1468" y="1468"/>
                  </a:lnTo>
                  <a:lnTo>
                    <a:pt x="1337" y="1576"/>
                  </a:lnTo>
                  <a:lnTo>
                    <a:pt x="1190" y="1657"/>
                  </a:lnTo>
                  <a:lnTo>
                    <a:pt x="1030" y="1707"/>
                  </a:lnTo>
                  <a:lnTo>
                    <a:pt x="861" y="1721"/>
                  </a:lnTo>
                  <a:close/>
                </a:path>
              </a:pathLst>
            </a:cu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0440" y="2538000"/>
              <a:ext cx="146880" cy="146520"/>
            </a:xfrm>
            <a:custGeom>
              <a:avLst/>
              <a:gdLst/>
              <a:ahLst/>
              <a:rect l="l" t="t" r="r" b="b"/>
              <a:pathLst>
                <a:path w="1476" h="1476">
                  <a:moveTo>
                    <a:pt x="738" y="1476"/>
                  </a:moveTo>
                  <a:lnTo>
                    <a:pt x="593" y="1464"/>
                  </a:lnTo>
                  <a:lnTo>
                    <a:pt x="455" y="1421"/>
                  </a:lnTo>
                  <a:lnTo>
                    <a:pt x="328" y="1351"/>
                  </a:lnTo>
                  <a:lnTo>
                    <a:pt x="217" y="1258"/>
                  </a:lnTo>
                  <a:lnTo>
                    <a:pt x="124" y="1147"/>
                  </a:lnTo>
                  <a:lnTo>
                    <a:pt x="55" y="1020"/>
                  </a:lnTo>
                  <a:lnTo>
                    <a:pt x="12" y="882"/>
                  </a:lnTo>
                  <a:lnTo>
                    <a:pt x="0" y="738"/>
                  </a:lnTo>
                  <a:lnTo>
                    <a:pt x="12" y="593"/>
                  </a:lnTo>
                  <a:lnTo>
                    <a:pt x="55" y="455"/>
                  </a:lnTo>
                  <a:lnTo>
                    <a:pt x="124" y="329"/>
                  </a:lnTo>
                  <a:lnTo>
                    <a:pt x="217" y="218"/>
                  </a:lnTo>
                  <a:lnTo>
                    <a:pt x="328" y="125"/>
                  </a:lnTo>
                  <a:lnTo>
                    <a:pt x="455" y="56"/>
                  </a:lnTo>
                  <a:lnTo>
                    <a:pt x="593" y="13"/>
                  </a:lnTo>
                  <a:lnTo>
                    <a:pt x="738" y="0"/>
                  </a:lnTo>
                  <a:lnTo>
                    <a:pt x="882" y="13"/>
                  </a:lnTo>
                  <a:lnTo>
                    <a:pt x="1020" y="56"/>
                  </a:lnTo>
                  <a:lnTo>
                    <a:pt x="1146" y="125"/>
                  </a:lnTo>
                  <a:lnTo>
                    <a:pt x="1257" y="218"/>
                  </a:lnTo>
                  <a:lnTo>
                    <a:pt x="1350" y="329"/>
                  </a:lnTo>
                  <a:lnTo>
                    <a:pt x="1420" y="455"/>
                  </a:lnTo>
                  <a:lnTo>
                    <a:pt x="1463" y="593"/>
                  </a:lnTo>
                  <a:lnTo>
                    <a:pt x="1476" y="738"/>
                  </a:lnTo>
                  <a:lnTo>
                    <a:pt x="1463" y="882"/>
                  </a:lnTo>
                  <a:lnTo>
                    <a:pt x="1420" y="1020"/>
                  </a:lnTo>
                  <a:lnTo>
                    <a:pt x="1350" y="1147"/>
                  </a:lnTo>
                  <a:lnTo>
                    <a:pt x="1257" y="1258"/>
                  </a:lnTo>
                  <a:lnTo>
                    <a:pt x="1146" y="1351"/>
                  </a:lnTo>
                  <a:lnTo>
                    <a:pt x="1020" y="1421"/>
                  </a:lnTo>
                  <a:lnTo>
                    <a:pt x="882" y="1464"/>
                  </a:lnTo>
                  <a:lnTo>
                    <a:pt x="738" y="1476"/>
                  </a:lnTo>
                  <a:close/>
                </a:path>
              </a:pathLst>
            </a:custGeom>
            <a:solidFill>
              <a:srgbClr val="fff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93040" y="2549880"/>
              <a:ext cx="121680" cy="12276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616" y="1230"/>
                  </a:moveTo>
                  <a:lnTo>
                    <a:pt x="494" y="1219"/>
                  </a:lnTo>
                  <a:lnTo>
                    <a:pt x="380" y="1184"/>
                  </a:lnTo>
                  <a:lnTo>
                    <a:pt x="275" y="1126"/>
                  </a:lnTo>
                  <a:lnTo>
                    <a:pt x="182" y="1048"/>
                  </a:lnTo>
                  <a:lnTo>
                    <a:pt x="105" y="956"/>
                  </a:lnTo>
                  <a:lnTo>
                    <a:pt x="47" y="850"/>
                  </a:lnTo>
                  <a:lnTo>
                    <a:pt x="11" y="736"/>
                  </a:lnTo>
                  <a:lnTo>
                    <a:pt x="0" y="615"/>
                  </a:lnTo>
                  <a:lnTo>
                    <a:pt x="11" y="494"/>
                  </a:lnTo>
                  <a:lnTo>
                    <a:pt x="47" y="380"/>
                  </a:lnTo>
                  <a:lnTo>
                    <a:pt x="105" y="274"/>
                  </a:lnTo>
                  <a:lnTo>
                    <a:pt x="182" y="181"/>
                  </a:lnTo>
                  <a:lnTo>
                    <a:pt x="275" y="104"/>
                  </a:lnTo>
                  <a:lnTo>
                    <a:pt x="380" y="47"/>
                  </a:lnTo>
                  <a:lnTo>
                    <a:pt x="494" y="10"/>
                  </a:lnTo>
                  <a:lnTo>
                    <a:pt x="616" y="0"/>
                  </a:lnTo>
                  <a:lnTo>
                    <a:pt x="736" y="10"/>
                  </a:lnTo>
                  <a:lnTo>
                    <a:pt x="851" y="47"/>
                  </a:lnTo>
                  <a:lnTo>
                    <a:pt x="956" y="104"/>
                  </a:lnTo>
                  <a:lnTo>
                    <a:pt x="1049" y="181"/>
                  </a:lnTo>
                  <a:lnTo>
                    <a:pt x="1127" y="274"/>
                  </a:lnTo>
                  <a:lnTo>
                    <a:pt x="1184" y="380"/>
                  </a:lnTo>
                  <a:lnTo>
                    <a:pt x="1220" y="494"/>
                  </a:lnTo>
                  <a:lnTo>
                    <a:pt x="1230" y="615"/>
                  </a:lnTo>
                  <a:lnTo>
                    <a:pt x="1220" y="736"/>
                  </a:lnTo>
                  <a:lnTo>
                    <a:pt x="1184" y="850"/>
                  </a:lnTo>
                  <a:lnTo>
                    <a:pt x="1127" y="956"/>
                  </a:lnTo>
                  <a:lnTo>
                    <a:pt x="1049" y="1048"/>
                  </a:lnTo>
                  <a:lnTo>
                    <a:pt x="956" y="1126"/>
                  </a:lnTo>
                  <a:lnTo>
                    <a:pt x="851" y="1184"/>
                  </a:lnTo>
                  <a:lnTo>
                    <a:pt x="736" y="1219"/>
                  </a:lnTo>
                  <a:lnTo>
                    <a:pt x="616" y="1230"/>
                  </a:lnTo>
                  <a:close/>
                </a:path>
              </a:pathLst>
            </a:custGeom>
            <a:solidFill>
              <a:srgbClr val="ff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04920" y="2562120"/>
              <a:ext cx="97920" cy="9756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2" y="984"/>
                  </a:moveTo>
                  <a:lnTo>
                    <a:pt x="395" y="976"/>
                  </a:lnTo>
                  <a:lnTo>
                    <a:pt x="303" y="947"/>
                  </a:lnTo>
                  <a:lnTo>
                    <a:pt x="219" y="901"/>
                  </a:lnTo>
                  <a:lnTo>
                    <a:pt x="144" y="839"/>
                  </a:lnTo>
                  <a:lnTo>
                    <a:pt x="82" y="764"/>
                  </a:lnTo>
                  <a:lnTo>
                    <a:pt x="36" y="680"/>
                  </a:lnTo>
                  <a:lnTo>
                    <a:pt x="7" y="589"/>
                  </a:lnTo>
                  <a:lnTo>
                    <a:pt x="0" y="492"/>
                  </a:lnTo>
                  <a:lnTo>
                    <a:pt x="7" y="396"/>
                  </a:lnTo>
                  <a:lnTo>
                    <a:pt x="36" y="304"/>
                  </a:lnTo>
                  <a:lnTo>
                    <a:pt x="82" y="219"/>
                  </a:lnTo>
                  <a:lnTo>
                    <a:pt x="144" y="145"/>
                  </a:lnTo>
                  <a:lnTo>
                    <a:pt x="219" y="83"/>
                  </a:lnTo>
                  <a:lnTo>
                    <a:pt x="303" y="37"/>
                  </a:lnTo>
                  <a:lnTo>
                    <a:pt x="395" y="8"/>
                  </a:lnTo>
                  <a:lnTo>
                    <a:pt x="492" y="0"/>
                  </a:lnTo>
                  <a:lnTo>
                    <a:pt x="588" y="8"/>
                  </a:lnTo>
                  <a:lnTo>
                    <a:pt x="679" y="37"/>
                  </a:lnTo>
                  <a:lnTo>
                    <a:pt x="764" y="83"/>
                  </a:lnTo>
                  <a:lnTo>
                    <a:pt x="838" y="145"/>
                  </a:lnTo>
                  <a:lnTo>
                    <a:pt x="900" y="219"/>
                  </a:lnTo>
                  <a:lnTo>
                    <a:pt x="946" y="304"/>
                  </a:lnTo>
                  <a:lnTo>
                    <a:pt x="975" y="396"/>
                  </a:lnTo>
                  <a:lnTo>
                    <a:pt x="984" y="492"/>
                  </a:lnTo>
                  <a:lnTo>
                    <a:pt x="975" y="589"/>
                  </a:lnTo>
                  <a:lnTo>
                    <a:pt x="946" y="680"/>
                  </a:lnTo>
                  <a:lnTo>
                    <a:pt x="900" y="764"/>
                  </a:lnTo>
                  <a:lnTo>
                    <a:pt x="838" y="839"/>
                  </a:lnTo>
                  <a:lnTo>
                    <a:pt x="764" y="901"/>
                  </a:lnTo>
                  <a:lnTo>
                    <a:pt x="679" y="947"/>
                  </a:lnTo>
                  <a:lnTo>
                    <a:pt x="588" y="976"/>
                  </a:lnTo>
                  <a:lnTo>
                    <a:pt x="492" y="984"/>
                  </a:lnTo>
                  <a:close/>
                </a:path>
              </a:pathLst>
            </a:custGeom>
            <a:solidFill>
              <a:srgbClr val="ff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16800" y="2574720"/>
              <a:ext cx="74160" cy="73080"/>
            </a:xfrm>
            <a:custGeom>
              <a:avLst/>
              <a:gdLst/>
              <a:ahLst/>
              <a:rect l="l" t="t" r="r" b="b"/>
              <a:pathLst>
                <a:path w="739" h="739">
                  <a:moveTo>
                    <a:pt x="370" y="739"/>
                  </a:moveTo>
                  <a:lnTo>
                    <a:pt x="297" y="733"/>
                  </a:lnTo>
                  <a:lnTo>
                    <a:pt x="229" y="712"/>
                  </a:lnTo>
                  <a:lnTo>
                    <a:pt x="165" y="676"/>
                  </a:lnTo>
                  <a:lnTo>
                    <a:pt x="109" y="630"/>
                  </a:lnTo>
                  <a:lnTo>
                    <a:pt x="63" y="575"/>
                  </a:lnTo>
                  <a:lnTo>
                    <a:pt x="28" y="511"/>
                  </a:lnTo>
                  <a:lnTo>
                    <a:pt x="7" y="443"/>
                  </a:lnTo>
                  <a:lnTo>
                    <a:pt x="0" y="370"/>
                  </a:lnTo>
                  <a:lnTo>
                    <a:pt x="7" y="298"/>
                  </a:lnTo>
                  <a:lnTo>
                    <a:pt x="28" y="228"/>
                  </a:lnTo>
                  <a:lnTo>
                    <a:pt x="63" y="166"/>
                  </a:lnTo>
                  <a:lnTo>
                    <a:pt x="109" y="109"/>
                  </a:lnTo>
                  <a:lnTo>
                    <a:pt x="165" y="63"/>
                  </a:lnTo>
                  <a:lnTo>
                    <a:pt x="229" y="29"/>
                  </a:lnTo>
                  <a:lnTo>
                    <a:pt x="297" y="7"/>
                  </a:lnTo>
                  <a:lnTo>
                    <a:pt x="370" y="0"/>
                  </a:lnTo>
                  <a:lnTo>
                    <a:pt x="442" y="7"/>
                  </a:lnTo>
                  <a:lnTo>
                    <a:pt x="511" y="29"/>
                  </a:lnTo>
                  <a:lnTo>
                    <a:pt x="574" y="63"/>
                  </a:lnTo>
                  <a:lnTo>
                    <a:pt x="630" y="109"/>
                  </a:lnTo>
                  <a:lnTo>
                    <a:pt x="677" y="166"/>
                  </a:lnTo>
                  <a:lnTo>
                    <a:pt x="711" y="228"/>
                  </a:lnTo>
                  <a:lnTo>
                    <a:pt x="733" y="298"/>
                  </a:lnTo>
                  <a:lnTo>
                    <a:pt x="739" y="370"/>
                  </a:lnTo>
                  <a:lnTo>
                    <a:pt x="733" y="443"/>
                  </a:lnTo>
                  <a:lnTo>
                    <a:pt x="711" y="511"/>
                  </a:lnTo>
                  <a:lnTo>
                    <a:pt x="677" y="575"/>
                  </a:lnTo>
                  <a:lnTo>
                    <a:pt x="630" y="630"/>
                  </a:lnTo>
                  <a:lnTo>
                    <a:pt x="574" y="676"/>
                  </a:lnTo>
                  <a:lnTo>
                    <a:pt x="511" y="712"/>
                  </a:lnTo>
                  <a:lnTo>
                    <a:pt x="442" y="733"/>
                  </a:lnTo>
                  <a:lnTo>
                    <a:pt x="370" y="739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760" y="2586600"/>
              <a:ext cx="48240" cy="4932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247" y="493"/>
                  </a:moveTo>
                  <a:lnTo>
                    <a:pt x="198" y="488"/>
                  </a:lnTo>
                  <a:lnTo>
                    <a:pt x="152" y="474"/>
                  </a:lnTo>
                  <a:lnTo>
                    <a:pt x="110" y="451"/>
                  </a:lnTo>
                  <a:lnTo>
                    <a:pt x="72" y="420"/>
                  </a:lnTo>
                  <a:lnTo>
                    <a:pt x="42" y="383"/>
                  </a:lnTo>
                  <a:lnTo>
                    <a:pt x="18" y="341"/>
                  </a:lnTo>
                  <a:lnTo>
                    <a:pt x="4" y="294"/>
                  </a:lnTo>
                  <a:lnTo>
                    <a:pt x="0" y="246"/>
                  </a:lnTo>
                  <a:lnTo>
                    <a:pt x="4" y="197"/>
                  </a:lnTo>
                  <a:lnTo>
                    <a:pt x="18" y="152"/>
                  </a:lnTo>
                  <a:lnTo>
                    <a:pt x="42" y="109"/>
                  </a:lnTo>
                  <a:lnTo>
                    <a:pt x="72" y="73"/>
                  </a:lnTo>
                  <a:lnTo>
                    <a:pt x="110" y="42"/>
                  </a:lnTo>
                  <a:lnTo>
                    <a:pt x="152" y="18"/>
                  </a:lnTo>
                  <a:lnTo>
                    <a:pt x="198" y="4"/>
                  </a:lnTo>
                  <a:lnTo>
                    <a:pt x="247" y="0"/>
                  </a:lnTo>
                  <a:lnTo>
                    <a:pt x="295" y="4"/>
                  </a:lnTo>
                  <a:lnTo>
                    <a:pt x="341" y="18"/>
                  </a:lnTo>
                  <a:lnTo>
                    <a:pt x="383" y="42"/>
                  </a:lnTo>
                  <a:lnTo>
                    <a:pt x="420" y="73"/>
                  </a:lnTo>
                  <a:lnTo>
                    <a:pt x="451" y="109"/>
                  </a:lnTo>
                  <a:lnTo>
                    <a:pt x="474" y="152"/>
                  </a:lnTo>
                  <a:lnTo>
                    <a:pt x="488" y="197"/>
                  </a:lnTo>
                  <a:lnTo>
                    <a:pt x="493" y="246"/>
                  </a:lnTo>
                  <a:lnTo>
                    <a:pt x="488" y="294"/>
                  </a:lnTo>
                  <a:lnTo>
                    <a:pt x="474" y="341"/>
                  </a:lnTo>
                  <a:lnTo>
                    <a:pt x="451" y="383"/>
                  </a:lnTo>
                  <a:lnTo>
                    <a:pt x="420" y="420"/>
                  </a:lnTo>
                  <a:lnTo>
                    <a:pt x="383" y="451"/>
                  </a:lnTo>
                  <a:lnTo>
                    <a:pt x="341" y="474"/>
                  </a:lnTo>
                  <a:lnTo>
                    <a:pt x="295" y="488"/>
                  </a:lnTo>
                  <a:lnTo>
                    <a:pt x="247" y="4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1640" y="2599200"/>
              <a:ext cx="24480" cy="2376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24" y="247"/>
                  </a:moveTo>
                  <a:lnTo>
                    <a:pt x="76" y="238"/>
                  </a:lnTo>
                  <a:lnTo>
                    <a:pt x="37" y="211"/>
                  </a:lnTo>
                  <a:lnTo>
                    <a:pt x="9" y="171"/>
                  </a:lnTo>
                  <a:lnTo>
                    <a:pt x="0" y="124"/>
                  </a:lnTo>
                  <a:lnTo>
                    <a:pt x="9" y="76"/>
                  </a:lnTo>
                  <a:lnTo>
                    <a:pt x="37" y="37"/>
                  </a:lnTo>
                  <a:lnTo>
                    <a:pt x="76" y="10"/>
                  </a:lnTo>
                  <a:lnTo>
                    <a:pt x="124" y="0"/>
                  </a:lnTo>
                  <a:lnTo>
                    <a:pt x="171" y="10"/>
                  </a:lnTo>
                  <a:lnTo>
                    <a:pt x="211" y="37"/>
                  </a:lnTo>
                  <a:lnTo>
                    <a:pt x="237" y="76"/>
                  </a:lnTo>
                  <a:lnTo>
                    <a:pt x="247" y="124"/>
                  </a:lnTo>
                  <a:lnTo>
                    <a:pt x="237" y="171"/>
                  </a:lnTo>
                  <a:lnTo>
                    <a:pt x="211" y="211"/>
                  </a:lnTo>
                  <a:lnTo>
                    <a:pt x="171" y="238"/>
                  </a:lnTo>
                  <a:lnTo>
                    <a:pt x="124" y="247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4880" y="2301480"/>
              <a:ext cx="424440" cy="600120"/>
            </a:xfrm>
            <a:custGeom>
              <a:avLst/>
              <a:gdLst/>
              <a:ahLst/>
              <a:rect l="l" t="t" r="r" b="b"/>
              <a:pathLst>
                <a:path w="4266" h="6037">
                  <a:moveTo>
                    <a:pt x="3002" y="0"/>
                  </a:moveTo>
                  <a:lnTo>
                    <a:pt x="2713" y="13"/>
                  </a:lnTo>
                  <a:lnTo>
                    <a:pt x="2428" y="54"/>
                  </a:lnTo>
                  <a:lnTo>
                    <a:pt x="2149" y="120"/>
                  </a:lnTo>
                  <a:lnTo>
                    <a:pt x="1878" y="214"/>
                  </a:lnTo>
                  <a:lnTo>
                    <a:pt x="1614" y="335"/>
                  </a:lnTo>
                  <a:lnTo>
                    <a:pt x="1360" y="484"/>
                  </a:lnTo>
                  <a:lnTo>
                    <a:pt x="1119" y="662"/>
                  </a:lnTo>
                  <a:lnTo>
                    <a:pt x="890" y="868"/>
                  </a:lnTo>
                  <a:lnTo>
                    <a:pt x="682" y="1100"/>
                  </a:lnTo>
                  <a:lnTo>
                    <a:pt x="501" y="1346"/>
                  </a:lnTo>
                  <a:lnTo>
                    <a:pt x="348" y="1604"/>
                  </a:lnTo>
                  <a:lnTo>
                    <a:pt x="223" y="1875"/>
                  </a:lnTo>
                  <a:lnTo>
                    <a:pt x="126" y="2153"/>
                  </a:lnTo>
                  <a:lnTo>
                    <a:pt x="56" y="2438"/>
                  </a:lnTo>
                  <a:lnTo>
                    <a:pt x="14" y="2727"/>
                  </a:lnTo>
                  <a:lnTo>
                    <a:pt x="0" y="3019"/>
                  </a:lnTo>
                  <a:lnTo>
                    <a:pt x="14" y="3310"/>
                  </a:lnTo>
                  <a:lnTo>
                    <a:pt x="56" y="3599"/>
                  </a:lnTo>
                  <a:lnTo>
                    <a:pt x="126" y="3885"/>
                  </a:lnTo>
                  <a:lnTo>
                    <a:pt x="223" y="4163"/>
                  </a:lnTo>
                  <a:lnTo>
                    <a:pt x="348" y="4433"/>
                  </a:lnTo>
                  <a:lnTo>
                    <a:pt x="501" y="4691"/>
                  </a:lnTo>
                  <a:lnTo>
                    <a:pt x="682" y="4937"/>
                  </a:lnTo>
                  <a:lnTo>
                    <a:pt x="890" y="5168"/>
                  </a:lnTo>
                  <a:lnTo>
                    <a:pt x="1120" y="5375"/>
                  </a:lnTo>
                  <a:lnTo>
                    <a:pt x="1362" y="5553"/>
                  </a:lnTo>
                  <a:lnTo>
                    <a:pt x="1615" y="5703"/>
                  </a:lnTo>
                  <a:lnTo>
                    <a:pt x="1879" y="5823"/>
                  </a:lnTo>
                  <a:lnTo>
                    <a:pt x="2151" y="5917"/>
                  </a:lnTo>
                  <a:lnTo>
                    <a:pt x="2432" y="5985"/>
                  </a:lnTo>
                  <a:lnTo>
                    <a:pt x="2716" y="6024"/>
                  </a:lnTo>
                  <a:lnTo>
                    <a:pt x="3005" y="6037"/>
                  </a:lnTo>
                  <a:lnTo>
                    <a:pt x="3076" y="6025"/>
                  </a:lnTo>
                  <a:lnTo>
                    <a:pt x="3159" y="5988"/>
                  </a:lnTo>
                  <a:lnTo>
                    <a:pt x="3249" y="5926"/>
                  </a:lnTo>
                  <a:lnTo>
                    <a:pt x="3347" y="5840"/>
                  </a:lnTo>
                  <a:lnTo>
                    <a:pt x="3451" y="5731"/>
                  </a:lnTo>
                  <a:lnTo>
                    <a:pt x="3556" y="5597"/>
                  </a:lnTo>
                  <a:lnTo>
                    <a:pt x="3662" y="5441"/>
                  </a:lnTo>
                  <a:lnTo>
                    <a:pt x="3766" y="5260"/>
                  </a:lnTo>
                  <a:lnTo>
                    <a:pt x="3865" y="5058"/>
                  </a:lnTo>
                  <a:lnTo>
                    <a:pt x="3959" y="4832"/>
                  </a:lnTo>
                  <a:lnTo>
                    <a:pt x="4044" y="4583"/>
                  </a:lnTo>
                  <a:lnTo>
                    <a:pt x="4119" y="4314"/>
                  </a:lnTo>
                  <a:lnTo>
                    <a:pt x="4180" y="4022"/>
                  </a:lnTo>
                  <a:lnTo>
                    <a:pt x="4227" y="3708"/>
                  </a:lnTo>
                  <a:lnTo>
                    <a:pt x="4257" y="3374"/>
                  </a:lnTo>
                  <a:lnTo>
                    <a:pt x="4266" y="3019"/>
                  </a:lnTo>
                  <a:lnTo>
                    <a:pt x="4257" y="2661"/>
                  </a:lnTo>
                  <a:lnTo>
                    <a:pt x="4227" y="2326"/>
                  </a:lnTo>
                  <a:lnTo>
                    <a:pt x="4179" y="2012"/>
                  </a:lnTo>
                  <a:lnTo>
                    <a:pt x="4118" y="1720"/>
                  </a:lnTo>
                  <a:lnTo>
                    <a:pt x="4043" y="1450"/>
                  </a:lnTo>
                  <a:lnTo>
                    <a:pt x="3958" y="1202"/>
                  </a:lnTo>
                  <a:lnTo>
                    <a:pt x="3864" y="976"/>
                  </a:lnTo>
                  <a:lnTo>
                    <a:pt x="3763" y="773"/>
                  </a:lnTo>
                  <a:lnTo>
                    <a:pt x="3660" y="595"/>
                  </a:lnTo>
                  <a:lnTo>
                    <a:pt x="3554" y="438"/>
                  </a:lnTo>
                  <a:lnTo>
                    <a:pt x="3448" y="305"/>
                  </a:lnTo>
                  <a:lnTo>
                    <a:pt x="3344" y="195"/>
                  </a:lnTo>
                  <a:lnTo>
                    <a:pt x="3246" y="110"/>
                  </a:lnTo>
                  <a:lnTo>
                    <a:pt x="3154" y="49"/>
                  </a:lnTo>
                  <a:lnTo>
                    <a:pt x="3073" y="12"/>
                  </a:lnTo>
                  <a:lnTo>
                    <a:pt x="30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Metamorphic rocks are formed by the combined effect of heat and pressure on other roc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826160" cy="288288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395280" y="1844280"/>
            <a:ext cx="6048360" cy="531720"/>
            <a:chOff x="395280" y="1844280"/>
            <a:chExt cx="6048360" cy="531720"/>
          </a:xfrm>
        </p:grpSpPr>
        <p:sp>
          <p:nvSpPr>
            <p:cNvPr id="273" name=""/>
            <p:cNvSpPr/>
            <p:nvPr/>
          </p:nvSpPr>
          <p:spPr>
            <a:xfrm>
              <a:off x="395280" y="19162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Pressure from rocks above…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00720" y="1844280"/>
              <a:ext cx="1942920" cy="289080"/>
            </a:xfrm>
            <a:prstGeom prst="line">
              <a:avLst/>
            </a:prstGeom>
            <a:ln w="31680">
              <a:solidFill>
                <a:srgbClr val="99ff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0920" y="2276280"/>
            <a:ext cx="6192720" cy="891720"/>
            <a:chOff x="250920" y="2276280"/>
            <a:chExt cx="6192720" cy="891720"/>
          </a:xfrm>
        </p:grpSpPr>
        <p:sp>
          <p:nvSpPr>
            <p:cNvPr id="276" name=""/>
            <p:cNvSpPr/>
            <p:nvPr/>
          </p:nvSpPr>
          <p:spPr>
            <a:xfrm>
              <a:off x="250920" y="270828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…</a:t>
              </a: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and heat from magma nearby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88000" y="2276280"/>
              <a:ext cx="1655640" cy="649080"/>
            </a:xfrm>
            <a:prstGeom prst="line">
              <a:avLst/>
            </a:prstGeom>
            <a:ln w="31680">
              <a:solidFill>
                <a:srgbClr val="33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4646-8E7C-4E6D-8E9E-3D2546F3B2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003640" y="1413000"/>
            <a:ext cx="3802320" cy="3340800"/>
            <a:chOff x="5003640" y="1413000"/>
            <a:chExt cx="3802320" cy="334080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5003640" y="1413000"/>
              <a:ext cx="380232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867280" y="429408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l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9640" y="3692520"/>
            <a:ext cx="5041800" cy="3165480"/>
            <a:chOff x="539640" y="3692520"/>
            <a:chExt cx="5041800" cy="316548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9640" y="3692520"/>
              <a:ext cx="338472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924360" y="6093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Marbl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24000" y="836640"/>
            <a:ext cx="5760720" cy="2670120"/>
            <a:chOff x="324000" y="836640"/>
            <a:chExt cx="5760720" cy="2670120"/>
          </a:xfrm>
        </p:grpSpPr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35542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635280" y="90792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Quartzi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227640" y="5229360"/>
            <a:ext cx="2232000" cy="1224000"/>
          </a:xfrm>
          <a:prstGeom prst="wedgeRoundRectCallout">
            <a:avLst>
              <a:gd name="adj1" fmla="val 13939"/>
              <a:gd name="adj2" fmla="val -16491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d you know I was once clay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11640" y="4365720"/>
            <a:ext cx="1873080" cy="863640"/>
          </a:xfrm>
          <a:prstGeom prst="wedgeRoundRectCallout">
            <a:avLst>
              <a:gd name="adj1" fmla="val -78726"/>
              <a:gd name="adj2" fmla="val 172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lime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59280" y="1916280"/>
            <a:ext cx="1873080" cy="1296720"/>
          </a:xfrm>
          <a:prstGeom prst="wedgeRoundRectCallout">
            <a:avLst>
              <a:gd name="adj1" fmla="val -78726"/>
              <a:gd name="adj2" fmla="val -5203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sand-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B215-B9FA-47AF-B5C6-DF5288B63A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508720" y="836640"/>
            <a:ext cx="287964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ow sedimentary rocks are formed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88000" y="2205000"/>
            <a:ext cx="4105080" cy="459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)  Weathering and eros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310400">
            <a:off x="2771640" y="1773000"/>
            <a:ext cx="2160720" cy="287280"/>
          </a:xfrm>
          <a:prstGeom prst="leftArrow">
            <a:avLst>
              <a:gd name="adj1" fmla="val 50000"/>
              <a:gd name="adj2" fmla="val 188033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694240" y="3429000"/>
            <a:ext cx="4973400" cy="459720"/>
            <a:chOff x="2694240" y="3429000"/>
            <a:chExt cx="4973400" cy="459720"/>
          </a:xfrm>
        </p:grpSpPr>
        <p:sp>
          <p:nvSpPr>
            <p:cNvPr id="297" name=""/>
            <p:cNvSpPr/>
            <p:nvPr/>
          </p:nvSpPr>
          <p:spPr>
            <a:xfrm>
              <a:off x="4788000" y="3429000"/>
              <a:ext cx="2879640" cy="459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2)  Transporta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1411000">
              <a:off x="2700360" y="3500280"/>
              <a:ext cx="2160720" cy="287640"/>
            </a:xfrm>
            <a:prstGeom prst="leftArrow">
              <a:avLst>
                <a:gd name="adj1" fmla="val 50000"/>
                <a:gd name="adj2" fmla="val 187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046400" y="5877000"/>
            <a:ext cx="3621240" cy="888840"/>
            <a:chOff x="4046400" y="5877000"/>
            <a:chExt cx="3621240" cy="888840"/>
          </a:xfrm>
        </p:grpSpPr>
        <p:sp>
          <p:nvSpPr>
            <p:cNvPr id="300" name=""/>
            <p:cNvSpPr/>
            <p:nvPr/>
          </p:nvSpPr>
          <p:spPr>
            <a:xfrm>
              <a:off x="4788000" y="5877000"/>
              <a:ext cx="287964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)  Burial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9908600">
              <a:off x="4067280" y="6308640"/>
              <a:ext cx="792000" cy="287280"/>
            </a:xfrm>
            <a:prstGeom prst="leftArrow">
              <a:avLst>
                <a:gd name="adj1" fmla="val 50000"/>
                <a:gd name="adj2" fmla="val 68922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971080" y="4653000"/>
            <a:ext cx="4696560" cy="1414800"/>
            <a:chOff x="2971080" y="4653000"/>
            <a:chExt cx="4696560" cy="1414800"/>
          </a:xfrm>
        </p:grpSpPr>
        <p:sp>
          <p:nvSpPr>
            <p:cNvPr id="303" name=""/>
            <p:cNvSpPr/>
            <p:nvPr/>
          </p:nvSpPr>
          <p:spPr>
            <a:xfrm rot="19959600">
              <a:off x="2916360" y="5300280"/>
              <a:ext cx="2160360" cy="287280"/>
            </a:xfrm>
            <a:prstGeom prst="leftArrow">
              <a:avLst>
                <a:gd name="adj1" fmla="val 50000"/>
                <a:gd name="adj2" fmla="val 188001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88000" y="4653000"/>
              <a:ext cx="2879640" cy="45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3)  Deposi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38D3-906E-401F-A143-A6E67FFC87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9640" y="907920"/>
            <a:ext cx="3600720" cy="2980800"/>
            <a:chOff x="539640" y="907920"/>
            <a:chExt cx="3600720" cy="29808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539640" y="907920"/>
              <a:ext cx="36007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042920" y="34290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and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26920" y="4221000"/>
            <a:ext cx="5905800" cy="2489400"/>
            <a:chOff x="826920" y="4221000"/>
            <a:chExt cx="5905800" cy="2489400"/>
          </a:xfrm>
        </p:grpSpPr>
        <p:pic>
          <p:nvPicPr>
            <p:cNvPr id="310" name="" descr=""/>
            <p:cNvPicPr/>
            <p:nvPr/>
          </p:nvPicPr>
          <p:blipFill>
            <a:blip r:embed="rId2"/>
            <a:stretch/>
          </p:blipFill>
          <p:spPr>
            <a:xfrm>
              <a:off x="3132000" y="4221000"/>
              <a:ext cx="360072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26920" y="551664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Conglomer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24360" y="907920"/>
            <a:ext cx="3024360" cy="2909520"/>
            <a:chOff x="5724360" y="907920"/>
            <a:chExt cx="3024360" cy="290952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5724360" y="907920"/>
              <a:ext cx="3024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084720" y="335772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Lime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aphicFrame>
        <p:nvGraphicFramePr>
          <p:cNvPr id="315" name=""/>
          <p:cNvGraphicFramePr/>
          <p:nvPr/>
        </p:nvGraphicFramePr>
        <p:xfrm>
          <a:off x="250920" y="1052640"/>
          <a:ext cx="8632800" cy="5543280"/>
        </p:xfrm>
        <a:graphic>
          <a:graphicData uri="http://schemas.openxmlformats.org/drawingml/2006/table">
            <a:tbl>
              <a:tblPr/>
              <a:tblGrid>
                <a:gridCol w="8632800"/>
              </a:tblGrid>
              <a:tr h="138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Comic Sans MS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99"/>
                          </a:solidFill>
                          <a:latin typeface="Comic Sans MS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EB7C-4869-400E-98D2-73E2E9A4C4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difference between weathering and erosion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rosion is the wearing away of rock by wind, water or ice (which means also that is taken away too). We will come back to that another da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athering is the breaking down of rock by weather, plants and animals (which means it tend to stay where it is) – a bit more about this in a minut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1517-C859-4154-8118-05E893C8EB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different types of weathering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(a) Freeze-thaw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(b) Onion-skin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olog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hem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6372360" y="1268280"/>
            <a:ext cx="2171520" cy="12193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5364000" y="2781360"/>
            <a:ext cx="3276720" cy="1295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6012000" y="4221000"/>
            <a:ext cx="2447640" cy="2349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9"/>
          <a:stretch/>
        </p:blipFill>
        <p:spPr>
          <a:xfrm>
            <a:off x="1042920" y="4068720"/>
            <a:ext cx="3895920" cy="252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C087-13AA-4F21-A397-24A9A2B32A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403280" y="606600"/>
            <a:ext cx="6840720" cy="60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58A5-2BC0-4727-9319-DAA5513778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Next came Rocky landscapes and quarri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I am not going to test you on thes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owever after that we looked at the other ways in which the scenery can be chang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C224-D9BB-4615-A7ED-6B9F11E361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rocesses at work 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3428640"/>
            <a:ext cx="8642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n we talked about what erodes, transports and deposits the material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an you remember how we grouped all the things that did this? What are the different things within the this group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187280" y="1052640"/>
            <a:ext cx="6121440" cy="1441440"/>
            <a:chOff x="1187280" y="1052640"/>
            <a:chExt cx="6121440" cy="1441440"/>
          </a:xfrm>
        </p:grpSpPr>
        <p:pic>
          <p:nvPicPr>
            <p:cNvPr id="331" name="" descr="River Erosion."/>
            <p:cNvPicPr/>
            <p:nvPr/>
          </p:nvPicPr>
          <p:blipFill>
            <a:blip r:embed="rId3"/>
            <a:stretch/>
          </p:blipFill>
          <p:spPr>
            <a:xfrm>
              <a:off x="1187280" y="1052640"/>
              <a:ext cx="1328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River Transport."/>
            <p:cNvPicPr/>
            <p:nvPr/>
          </p:nvPicPr>
          <p:blipFill>
            <a:blip r:embed="rId4"/>
            <a:stretch/>
          </p:blipFill>
          <p:spPr>
            <a:xfrm>
              <a:off x="3419640" y="1255680"/>
              <a:ext cx="1652400" cy="11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River Deposition."/>
            <p:cNvPicPr/>
            <p:nvPr/>
          </p:nvPicPr>
          <p:blipFill>
            <a:blip r:embed="rId5"/>
            <a:stretch/>
          </p:blipFill>
          <p:spPr>
            <a:xfrm>
              <a:off x="6043680" y="1123920"/>
              <a:ext cx="1265040" cy="12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"/>
          <p:cNvSpPr/>
          <p:nvPr/>
        </p:nvSpPr>
        <p:spPr>
          <a:xfrm>
            <a:off x="68436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Erosion                  Transport            Deposi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FAE0-00CF-4AB4-8303-8C6893FF78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re have been 3 main area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physical worl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at was about how rocks are made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bout the processes that changes how the world look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ow great the changes are that glaciers can make to the environment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working worl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at was about the different sorts of economic activitie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d about factories, where they are sited and why- and what happens when they close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d manufacturing in other parts of the world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n we have been looking at fragile environment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242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In this case Antarctica – the Treaty, the Ozone layer and how Antarctica could be used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3B34-0B85-458A-A207-29C583D9EE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these pictures about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3314520" cy="2495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3313080" cy="2485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2700360" y="1484280"/>
            <a:ext cx="2663640" cy="2000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95280" y="692280"/>
            <a:ext cx="5545080" cy="504720"/>
          </a:xfrm>
          <a:prstGeom prst="wedgeRoundRectCallout">
            <a:avLst>
              <a:gd name="adj1" fmla="val -9032"/>
              <a:gd name="adj2" fmla="val 91194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Verdana"/>
              </a:rPr>
              <a:t>Worth looking at Jan 27PP – esp pictur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300720" y="3068640"/>
            <a:ext cx="2519280" cy="167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E665-98E2-4FBD-AF7F-73330CBB94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427640" y="333360"/>
            <a:ext cx="4465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t present about 10% of the Earth's surface is ice covered, but about two million years ago the Planet's climate became much colder and as a result of this the polar ice caps extended into lower latitudes to cover over 30% of the Earth's surface at their maximu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period of time is known as the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ice age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3644640" cy="51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9E62-C475-42E8-AC28-73AF966A11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snow layers built up year after year, the lowest layers were compacted into ice and this gradually moves down slope under the force of gravity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Masses of ice which covered large areas of a continent were called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ce sheets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whilst those which occupy mountain valleys were called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valley glaciers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n many parts of Northern Europe, which are now free from ice, striking features of both glacial erosion and deposition can be seen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71B7-C98C-453B-B752-804318E191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Glaci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08000" y="1125360"/>
            <a:ext cx="5149440" cy="4599000"/>
            <a:chOff x="108000" y="1125360"/>
            <a:chExt cx="5149440" cy="45990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108000" y="1125360"/>
              <a:ext cx="5106960" cy="45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934800" y="1707840"/>
              <a:ext cx="326880" cy="459720"/>
            </a:xfrm>
            <a:prstGeom prst="borderCallout1">
              <a:avLst>
                <a:gd name="adj1" fmla="val 18750"/>
                <a:gd name="adj2" fmla="val -8333"/>
                <a:gd name="adj3" fmla="val 626601"/>
                <a:gd name="adj4" fmla="val -252143"/>
              </a:avLst>
            </a:prstGeom>
            <a:solidFill>
              <a:srgbClr val="ffffff"/>
            </a:solidFill>
            <a:ln w="3816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9440" y="4047840"/>
              <a:ext cx="326880" cy="459720"/>
            </a:xfrm>
            <a:prstGeom prst="borderCallout1">
              <a:avLst>
                <a:gd name="adj1" fmla="val 18750"/>
                <a:gd name="adj2" fmla="val -8333"/>
                <a:gd name="adj3" fmla="val -178634"/>
                <a:gd name="adj4" fmla="val 607587"/>
              </a:avLst>
            </a:prstGeom>
            <a:solidFill>
              <a:srgbClr val="ffffff"/>
            </a:solidFill>
            <a:ln w="3816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10800" y="4733640"/>
              <a:ext cx="326880" cy="459720"/>
            </a:xfrm>
            <a:prstGeom prst="borderCallout1">
              <a:avLst>
                <a:gd name="adj1" fmla="val 18750"/>
                <a:gd name="adj2" fmla="val -8333"/>
                <a:gd name="adj3" fmla="val -40375"/>
                <a:gd name="adj4" fmla="val 531129"/>
              </a:avLst>
            </a:prstGeom>
            <a:solidFill>
              <a:srgbClr val="ffffff"/>
            </a:solidFill>
            <a:ln w="3816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979520" y="3030120"/>
              <a:ext cx="277920" cy="459720"/>
            </a:xfrm>
            <a:prstGeom prst="borderCallout1">
              <a:avLst>
                <a:gd name="adj1" fmla="val 18750"/>
                <a:gd name="adj2" fmla="val -8333"/>
                <a:gd name="adj3" fmla="val 556569"/>
                <a:gd name="adj4" fmla="val 479300"/>
              </a:avLst>
            </a:prstGeom>
            <a:solidFill>
              <a:srgbClr val="ffffff"/>
            </a:solidFill>
            <a:ln w="3816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219640" y="1197000"/>
            <a:ext cx="3882960" cy="4578480"/>
            <a:chOff x="5219640" y="1197000"/>
            <a:chExt cx="3882960" cy="457848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rcRect l="51624" t="-3114" r="0" b="0"/>
            <a:stretch/>
          </p:blipFill>
          <p:spPr>
            <a:xfrm>
              <a:off x="5364360" y="3500280"/>
              <a:ext cx="2808000" cy="22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3"/>
            <a:srcRect l="0" t="0" r="51624" b="4359"/>
            <a:stretch/>
          </p:blipFill>
          <p:spPr>
            <a:xfrm>
              <a:off x="5219640" y="1197000"/>
              <a:ext cx="27370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248680" y="3890880"/>
              <a:ext cx="498600" cy="459720"/>
            </a:xfrm>
            <a:prstGeom prst="borderCallout1">
              <a:avLst>
                <a:gd name="adj1" fmla="val 18750"/>
                <a:gd name="adj2" fmla="val -8333"/>
                <a:gd name="adj3" fmla="val 260092"/>
                <a:gd name="adj4" fmla="val -321643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72360" y="4508640"/>
              <a:ext cx="498600" cy="459720"/>
            </a:xfrm>
            <a:prstGeom prst="borderCallout1">
              <a:avLst>
                <a:gd name="adj1" fmla="val 18750"/>
                <a:gd name="adj2" fmla="val -8333"/>
                <a:gd name="adj3" fmla="val 173004"/>
                <a:gd name="adj4" fmla="val -228643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72360" y="1557360"/>
              <a:ext cx="498600" cy="459720"/>
            </a:xfrm>
            <a:prstGeom prst="borderCallout1">
              <a:avLst>
                <a:gd name="adj1" fmla="val 18750"/>
                <a:gd name="adj2" fmla="val -8333"/>
                <a:gd name="adj3" fmla="val 156101"/>
                <a:gd name="adj4" fmla="val -278930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32400" y="3429000"/>
              <a:ext cx="498600" cy="459720"/>
            </a:xfrm>
            <a:prstGeom prst="borderCallout1">
              <a:avLst>
                <a:gd name="adj1" fmla="val 18750"/>
                <a:gd name="adj2" fmla="val -8333"/>
                <a:gd name="adj3" fmla="val 179888"/>
                <a:gd name="adj4" fmla="val 229578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04360" y="5013360"/>
              <a:ext cx="498240" cy="459720"/>
            </a:xfrm>
            <a:prstGeom prst="borderCallout1">
              <a:avLst>
                <a:gd name="adj1" fmla="val 18750"/>
                <a:gd name="adj2" fmla="val -8333"/>
                <a:gd name="adj3" fmla="val 25898"/>
                <a:gd name="adj4" fmla="val -193569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08000" y="981000"/>
            <a:ext cx="57636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618920" y="1628640"/>
            <a:ext cx="576360" cy="72072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48E7-142F-4BD4-BB68-67046CAA1C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You have an exam in 3 wee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will be 4 questions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Question 1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ll be about knowing where some of the countries in the world are – you will get 10 -15 minutes each week to go and play some quizzes and make sure you know the main countries in the world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ractice continent by continent – but I will give you a list of the most important one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445C-9E60-4C9C-8432-2CD3DEA088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You have an exam in 3 wee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will be 4 questions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Question 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ll be about the physical worl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Question 3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ll be about the working worl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Questio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ll be about Antarctic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8C59-CDE6-4EA9-8FE7-6468862AD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Each week we will remind ourselves about the important parts of each topic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homework will be short HotPotatoes or a word version for those you cannot use i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re will also be things to do on the wiki, but there won’t be any marks for those, and I won’t know whether you have done them or not – so it is really up to you if you want to do well in the exam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y the way, the PowerPoints will have notes at the bottom – so if you open them up, they will mention most of the things we have talked abou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40FE-D204-44AD-8305-6FE1B85248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So today we will remind ourselves about the physical world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D31E-487B-4A5F-968B-85E3A9350B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47192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56120" y="102960"/>
            <a:ext cx="4836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Structure of the Earth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26920" y="907920"/>
            <a:ext cx="4505760" cy="1229760"/>
            <a:chOff x="826920" y="907920"/>
            <a:chExt cx="4505760" cy="1229760"/>
          </a:xfrm>
        </p:grpSpPr>
        <p:sp>
          <p:nvSpPr>
            <p:cNvPr id="185" name=""/>
            <p:cNvSpPr/>
            <p:nvPr/>
          </p:nvSpPr>
          <p:spPr>
            <a:xfrm rot="1084200">
              <a:off x="3255120" y="1517040"/>
              <a:ext cx="2081520" cy="304920"/>
            </a:xfrm>
            <a:prstGeom prst="rightArrow">
              <a:avLst>
                <a:gd name="adj1" fmla="val 50000"/>
                <a:gd name="adj2" fmla="val 170661"/>
              </a:avLst>
            </a:prstGeom>
            <a:solidFill>
              <a:srgbClr val="cc66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6920" y="907920"/>
              <a:ext cx="2775240" cy="1191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thin crust - 10-100km thick and not very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50920" y="2276640"/>
            <a:ext cx="4937760" cy="1191240"/>
            <a:chOff x="250920" y="2276640"/>
            <a:chExt cx="4937760" cy="1191240"/>
          </a:xfrm>
        </p:grpSpPr>
        <p:sp>
          <p:nvSpPr>
            <p:cNvPr id="188" name=""/>
            <p:cNvSpPr/>
            <p:nvPr/>
          </p:nvSpPr>
          <p:spPr>
            <a:xfrm rot="21440400">
              <a:off x="3209760" y="2428920"/>
              <a:ext cx="1972800" cy="304920"/>
            </a:xfrm>
            <a:prstGeom prst="rightArrow">
              <a:avLst>
                <a:gd name="adj1" fmla="val 50000"/>
                <a:gd name="adj2" fmla="val 161747"/>
              </a:avLst>
            </a:prstGeom>
            <a:solidFill>
              <a:srgbClr val="ff99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0920" y="2276640"/>
              <a:ext cx="3369960" cy="1191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mantle – extends almost halfway to the centre, hot and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79280" y="3331080"/>
            <a:ext cx="5466240" cy="2536560"/>
            <a:chOff x="179280" y="3331080"/>
            <a:chExt cx="5466240" cy="2536560"/>
          </a:xfrm>
        </p:grpSpPr>
        <p:sp>
          <p:nvSpPr>
            <p:cNvPr id="191" name=""/>
            <p:cNvSpPr/>
            <p:nvPr/>
          </p:nvSpPr>
          <p:spPr>
            <a:xfrm rot="20285400">
              <a:off x="3541320" y="3715920"/>
              <a:ext cx="2123640" cy="304920"/>
            </a:xfrm>
            <a:prstGeom prst="rightArrow">
              <a:avLst>
                <a:gd name="adj1" fmla="val 50000"/>
                <a:gd name="adj2" fmla="val 174115"/>
              </a:avLst>
            </a:prstGeom>
            <a:solidFill>
              <a:srgbClr val="fee97e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9280" y="3944880"/>
              <a:ext cx="3893400" cy="1922760"/>
            </a:xfrm>
            <a:prstGeom prst="rect">
              <a:avLst/>
            </a:prstGeom>
            <a:solidFill>
              <a:srgbClr val="fee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core – made of molten nickel and iron.  Outer part is liquid and inner part is solid.  Gets hot due to radioactive decay.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57200" y="60357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99"/>
                </a:solidFill>
                <a:latin typeface="Comic Sans MS"/>
              </a:rPr>
              <a:t>The Earth is believed to be 4500 million years ol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5AD7-A6AC-4257-99C4-49AD06E537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 of the rocks start out in the mantl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08720" y="3213000"/>
            <a:ext cx="2809800" cy="2619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24320" cy="2838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979640" y="4606920"/>
            <a:ext cx="3384360" cy="891000"/>
          </a:xfrm>
          <a:prstGeom prst="wedgeRoundRectCallout">
            <a:avLst>
              <a:gd name="adj1" fmla="val 88500"/>
              <a:gd name="adj2" fmla="val -26333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this is how they get ou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F4BC-0E64-4602-ACA2-6D8BCC75F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These rocks are 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1905120" cy="2730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4120" y="98100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2808360" cy="26161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908000" y="1052640"/>
            <a:ext cx="3527640" cy="2288520"/>
            <a:chOff x="1908000" y="1052640"/>
            <a:chExt cx="3527640" cy="2288520"/>
          </a:xfrm>
        </p:grpSpPr>
        <p:sp>
          <p:nvSpPr>
            <p:cNvPr id="203" name=""/>
            <p:cNvSpPr/>
            <p:nvPr/>
          </p:nvSpPr>
          <p:spPr>
            <a:xfrm>
              <a:off x="2556000" y="1052640"/>
              <a:ext cx="2305080" cy="22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gneous rocks are formed when lava or magma cools down and solidifie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8000" y="206064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0800000">
              <a:off x="4716360" y="206028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340000" y="3933720"/>
            <a:ext cx="5903640" cy="825480"/>
            <a:chOff x="2340000" y="3933720"/>
            <a:chExt cx="5903640" cy="825480"/>
          </a:xfrm>
        </p:grpSpPr>
        <p:sp>
          <p:nvSpPr>
            <p:cNvPr id="207" name=""/>
            <p:cNvSpPr/>
            <p:nvPr/>
          </p:nvSpPr>
          <p:spPr>
            <a:xfrm>
              <a:off x="3413160" y="3933720"/>
              <a:ext cx="4830480" cy="8254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If the lava or magma cools QUICKLY it has SMALL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40000" y="4149720"/>
              <a:ext cx="1149480" cy="431640"/>
            </a:xfrm>
            <a:prstGeom prst="leftArrow">
              <a:avLst>
                <a:gd name="adj1" fmla="val 50000"/>
                <a:gd name="adj2" fmla="val 66576"/>
              </a:avLst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268360" y="5734080"/>
            <a:ext cx="5975280" cy="863640"/>
            <a:chOff x="2268360" y="5734080"/>
            <a:chExt cx="5975280" cy="863640"/>
          </a:xfrm>
        </p:grpSpPr>
        <p:sp>
          <p:nvSpPr>
            <p:cNvPr id="210" name=""/>
            <p:cNvSpPr/>
            <p:nvPr/>
          </p:nvSpPr>
          <p:spPr>
            <a:xfrm>
              <a:off x="3431880" y="5734080"/>
              <a:ext cx="4811760" cy="8254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f the lava or magma cools SLOWLY it has BIG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68360" y="6165720"/>
              <a:ext cx="1163520" cy="432000"/>
            </a:xfrm>
            <a:prstGeom prst="leftArrow">
              <a:avLst>
                <a:gd name="adj1" fmla="val 50000"/>
                <a:gd name="adj2" fmla="val 67333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BE22-A80E-4A7D-923B-DF43167EE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14:41:57Z</dcterms:created>
  <dc:creator>Lindy</dc:creator>
  <dc:description/>
  <dc:language>en-US</dc:language>
  <cp:lastModifiedBy>Lindy</cp:lastModifiedBy>
  <dcterms:modified xsi:type="dcterms:W3CDTF">2009-05-31T12:40:05Z</dcterms:modified>
  <cp:revision>4</cp:revision>
  <dc:subject/>
  <dc:title>What have we done this year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